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34A-78C0-45E8-88AF-0B0F9450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500-243C-4C5F-B587-83EED449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EE83-ABC4-442F-A322-5A25516E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D35F-B044-47C5-B918-E5D316B1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89C2-5B89-44FB-AE19-F5C2791D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7ED-DCA5-4CF2-BB76-1EDF81F9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3FA-6E88-4322-B157-9D50D709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2F1-D982-4786-BABF-67404047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52CF-7FAD-46EF-9259-186A99E9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346-9F82-4D1A-B8CF-0B3FF3F4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5BA8-1605-4CD6-A464-F0631470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4DCC-317D-4192-A1B2-93328143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489C-F36B-48BE-B17A-878257DB42F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765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lgoritmo consiste in una sommatoria, che moltiplica le emissioni degli inquinanti per cui è presente un valore del coefficiente per il corrispondente coeffici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4722840"/>
            <a:ext cx="48006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ursori ozon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Prec_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anze acidificanti (H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824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inquinanti calcolati sono i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PER LA STIMA DELLE EMISSIONI AGGR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152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ggr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33520" y="1295280"/>
            <a:ext cx="8076960" cy="5403960"/>
            <a:chOff x="533520" y="1295280"/>
            <a:chExt cx="8076960" cy="54039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rcRect l="0" t="0" r="17970" b="23960"/>
            <a:stretch/>
          </p:blipFill>
          <p:spPr>
            <a:xfrm>
              <a:off x="533520" y="1295280"/>
              <a:ext cx="8076960" cy="540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85800" y="4343400"/>
              <a:ext cx="1828800" cy="3049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W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80880"/>
            <a:ext cx="57150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CO</a:t>
            </a:r>
            <a:r>
              <a:rPr b="1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352680"/>
            <a:ext cx="861048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W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2860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Precursori dell’ozono (REC_O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581280"/>
            <a:ext cx="861048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228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Sostanze acidificanti (H+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+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581280"/>
            <a:ext cx="86104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+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956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96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empio di coefficienti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inseriti nella tabel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1389240"/>
            <a:ext cx="59436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956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16000"/>
            <a:ext cx="9144000" cy="64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oefficienti tengono conto della necessità di conversione delle unità di mis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à di misura (tab. inquinan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inquina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, N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NH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M2.5, PM10, PTS : 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k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inquina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lli pesanti, acidi, F-gas : kg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OX : g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quinanti aggreg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, H+ : k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533520"/>
            <a:ext cx="8763120" cy="56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fonti bibliografiche utilizzati per i coefficienti so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WP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.S. Environmental Protection Agency (E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http://epa.gov/nonco2/econ-inv/tabl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ec_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e H+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 Leeuw F. (2002) A set of emission indicators for long-range transboundary air pollution, Environmental Science &amp; Policy 5 (2002) 135-1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286000"/>
            <a:ext cx="82296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ludendo gli F-gas, l’emissione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sarà data dal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missioni di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tiplicate per 0.021 + emissioni di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moltiplicate per 0.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valore inserito di GWP del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.021) comprende già la conversione delle unità di misura: l’emissione di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è in t/anno; quella di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 in kt/anno, di conseguenza il GWP reale di 21 è inserito Inemar pari a 0.021 (21/100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empio di calc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95280"/>
            <a:ext cx="830592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 tre inquinant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i GWP sono rispettivamente 1, 0.021 e 0.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952880"/>
            <a:ext cx="83818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o 100 kt/anno, quelle di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 t/anno, quelle di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10 t/anno, 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sono date 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= 100  * 1 kt/anno + 0.021 * 50 kt/anno + 10 * 0.31 kt/anno = 104.2 kt/an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5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abella POTENZ_INQ_AGG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8333" r="38281" b="34375"/>
          <a:stretch/>
        </p:blipFill>
        <p:spPr>
          <a:xfrm>
            <a:off x="533520" y="1036800"/>
            <a:ext cx="792468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ORETTI</cp:lastModifiedBy>
  <dcterms:modified xsi:type="dcterms:W3CDTF">2006-05-09T13:18:49Z</dcterms:modified>
  <cp:revision>67</cp:revision>
  <dc:subject/>
  <dc:title>PowerPoint Presentation</dc:title>
</cp:coreProperties>
</file>