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AFD-7DD8-467F-B254-34D669F7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B37-7D84-4398-AA7E-92A1D174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CDA-B78F-4C4D-AE54-E4026773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555-5909-42BA-B613-A379BFAB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D9E-39FB-4D08-97E4-2823714E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D4C-92B1-4E85-BAEF-F4CC9812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881-FF42-433C-870E-4E0F9D5E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A8C-81D1-4F01-BC19-0C74960E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9AD-B57D-4677-BA50-C9ECAED1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EE1-FDAF-43DF-9901-405E5E0B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C09-573C-400A-96A4-F5ABA0BA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F84-D63B-4905-8044-2028E5C9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9DF5-A8BE-48F5-9D10-70984D0099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765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lgoritmo consiste in una sommatoria, che moltiplica le emissioni degli inquinanti per cui è presente un valore del coefficiente per il corrispondente coeffic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722840"/>
            <a:ext cx="4800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ursori ozo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Prec_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anze acidificanti (H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nquinanti calcolati sono i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PER LA STIMA DELLE 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1295280"/>
            <a:ext cx="8076960" cy="5403960"/>
            <a:chOff x="533520" y="1295280"/>
            <a:chExt cx="8076960" cy="5403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17970" b="23960"/>
            <a:stretch/>
          </p:blipFill>
          <p:spPr>
            <a:xfrm>
              <a:off x="533520" y="1295280"/>
              <a:ext cx="8076960" cy="540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85800" y="4343400"/>
              <a:ext cx="1828800" cy="304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880"/>
            <a:ext cx="5715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CO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3526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286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Precursori dell’ozono (REC_O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5812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Sostanze acidificanti (H+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81280"/>
            <a:ext cx="86104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oefficient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inseriti nella tab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389240"/>
            <a:ext cx="5943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6000"/>
            <a:ext cx="9144000" cy="64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efficienti tengono conto della necessità di conversione delle unità di mis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à di misura (tab. inquina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, 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M2.5, PM10, PTS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li pesanti, acidi, F-gas : k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X : 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nanti aggreg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, H+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533520"/>
            <a:ext cx="876312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fonti bibliografiche utilizzati per i coefficienti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WP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.S. Environmental Protection Agency (E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ttp://epa.gov/nonco2/econ-inv/tabl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c_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e H+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 Leeuw F. (2002) A set of emission indicators for long-range transboundary air pollution, Environmental Science &amp; Policy 5 (2002) 135-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0"/>
            <a:ext cx="822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ludendo gli F-gas, l’emission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arà data dal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missioni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tiplicate per 0.021 + emissioni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ltiplicate per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inserito di GWP del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021) comprende già la conversione delle unità di misura: l’emissione di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in t/anno; quella di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 in kt/anno, di conseguenza il GWP reale di 21 è inserito Inemar pari a 0.021 (21/10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al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3059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 tre inquinant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i GWP sono rispettivamente 1, 0.021 e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52880"/>
            <a:ext cx="83818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100 kt/anno, quelle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 t/anno, quelle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0 t/anno,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ono date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100  * 1 kt/anno + 0.021 * 50 kt/anno + 10 * 0.31 kt/anno = 104.2 kt/an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bella POTENZ_INQ_AGG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8333" r="38281" b="34375"/>
          <a:stretch/>
        </p:blipFill>
        <p:spPr>
          <a:xfrm>
            <a:off x="533520" y="1036800"/>
            <a:ext cx="79246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6-05-09T13:18:49Z</dcterms:modified>
  <cp:revision>67</cp:revision>
  <dc:subject/>
  <dc:title>PowerPoint Presentation</dc:title>
</cp:coreProperties>
</file>