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5D8-9FC8-4597-A500-B57BA3D8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6731-781D-427F-A76F-2527725C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3B9-A3AF-4D07-9BEB-5A7F9457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CB9-D847-44F1-9D32-5C3C8FA6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DAB-319D-4F32-9376-8F04B9C0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C6A-9C36-4E75-855C-49EB2D1A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844-3799-4036-A55A-B18755D3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A1E-E889-4CA4-8A4C-8C4E64EA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747-D833-480C-957B-D0BEE098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4AA-B9D0-47EB-9EF7-93B836E9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F09-8362-47C5-87A2-4EE8196E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AC5-8E07-44E4-B527-7F8D02E9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0039-674C-468A-936A-F5ADC13E3B4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765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lgoritmo consiste in una sommatoria, che moltiplica le emissioni degli inquinanti per cui è presente un valore del coefficiente per il corrispondente coeffici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4722840"/>
            <a:ext cx="48006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ursori ozo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Prec_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anze acidificanti (H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8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inquinanti calcolati sono i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PER LA STIMA DELLE EMISSIONI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152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3520" y="1295280"/>
            <a:ext cx="8076960" cy="5403960"/>
            <a:chOff x="533520" y="1295280"/>
            <a:chExt cx="8076960" cy="54039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0" t="0" r="17970" b="23960"/>
            <a:stretch/>
          </p:blipFill>
          <p:spPr>
            <a:xfrm>
              <a:off x="533520" y="1295280"/>
              <a:ext cx="8076960" cy="540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85800" y="4343400"/>
              <a:ext cx="1828800" cy="3049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880"/>
            <a:ext cx="5715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CO</a:t>
            </a:r>
            <a:r>
              <a:rPr b="1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352680"/>
            <a:ext cx="861048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2860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Precursori dell’ozono (REC_O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581280"/>
            <a:ext cx="861048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28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Sostanze acidificanti (H+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581280"/>
            <a:ext cx="86104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956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6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empio di coefficienti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inseriti nella tabel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1389240"/>
            <a:ext cx="59436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956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16000"/>
            <a:ext cx="9144000" cy="64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oefficienti tengono conto della necessità di conversione delle unità di mis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à di misura (tab. inquinan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inquina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, N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M2.5, PM10, PTS : 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k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inquina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lli pesanti, acidi, F-gas : kg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OX : g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quinanti aggreg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, H+ : k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533520"/>
            <a:ext cx="8763120" cy="56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fonti bibliografiche utilizzati per i coefficienti so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WP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.S. Environmental Protection Agency (E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http://epa.gov/nonco2/econ-inv/tabl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ec_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e H+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 Leeuw F. (2002) A set of emission indicators for long-range transboundary air pollution, Environmental Science &amp; Policy 5 (2002) 135-1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286000"/>
            <a:ext cx="82296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ludendo gli F-gas, l’emissione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sarà data dal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missioni di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tiplicate per 0.021 + emissioni di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moltiplicate per 0.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valore inserito di GWP del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.021) comprende già la conversione delle unità di misura: l’emissione di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è in t/anno; quella di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 in kt/anno, di conseguenza il GWP reale di 21 è inserito Inemar pari a 0.021 (21/100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empio di calc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3059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 tre inquinant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i GWP sono rispettivamente 1, 0.021 e 0.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952880"/>
            <a:ext cx="83818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o 100 kt/anno, quelle di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 t/anno, quelle di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10 t/anno, 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sono date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= 100  * 1 kt/anno + 0.021 * 50 kt/anno + 10 * 0.31 kt/anno = 104.2 kt/an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bella POTENZ_INQ_AGG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8333" r="38281" b="34375"/>
          <a:stretch/>
        </p:blipFill>
        <p:spPr>
          <a:xfrm>
            <a:off x="533520" y="1036800"/>
            <a:ext cx="792468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TTI</cp:lastModifiedBy>
  <dcterms:modified xsi:type="dcterms:W3CDTF">2006-05-09T13:18:49Z</dcterms:modified>
  <cp:revision>67</cp:revision>
  <dc:subject/>
  <dc:title>PowerPoint Presentation</dc:title>
</cp:coreProperties>
</file>