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E054-700B-4073-A755-1713FC44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3508-A8EA-42BB-B962-0451D7F8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1980-77BE-4176-99BF-71ED4B145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B95A-EAD3-4017-A5A7-F8C62313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0FBC-2318-47FD-B64A-2F2827DE9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C95A-E16A-4DA0-A332-9229EC04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0A07-1CD0-4B15-BEDD-F3011B2A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CD28-5D66-4A04-953C-2C7C2B6C9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3282-F48A-4FBD-8BC4-75A26C6F6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F0A6-6F9B-4E97-A4D7-8CE5E55D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D89E-D552-4E49-B9ED-E3ED112F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A5F3-C90C-451A-9FCA-F8605CAB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39BB-5CCB-4295-8E02-EC983FB00B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93760" y="2487600"/>
            <a:ext cx="8834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2192400" y="5486400"/>
            <a:ext cx="5035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g. Anna Fraccar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568520" cy="1413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1166400" y="3275280"/>
            <a:ext cx="713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Verdana"/>
              </a:rPr>
              <a:t>Il modulo delle emissioni diff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C:\Documents and Settings\AFRACCAROLI\Documenti\Immagini\logo.bmp"/>
          <p:cNvPicPr/>
          <p:nvPr/>
        </p:nvPicPr>
        <p:blipFill>
          <a:blip r:embed="rId2"/>
          <a:stretch/>
        </p:blipFill>
        <p:spPr>
          <a:xfrm>
            <a:off x="5791320" y="228600"/>
            <a:ext cx="3114720" cy="82872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92120" y="990720"/>
            <a:ext cx="8159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Sono reperibili in letteratura numerosi dati di fattori di emissione. </a:t>
            </a:r>
            <a:br>
              <a:rPr sz="2400"/>
            </a:b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I dati sono riportati in funzione del tipo di impianto, del combustibile e delle tecnologie di depurazione dei fu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304280" y="3048120"/>
            <a:ext cx="64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Europei (Corinair, EEA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ttp://reports.eea.eu.int/EMEPCORINAIR/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835280" y="5486400"/>
            <a:ext cx="50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USA (EPA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http://www.epa.gov/ttn/chief/ei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604880" y="4267080"/>
            <a:ext cx="582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Verdana"/>
              </a:rPr>
              <a:t>dati medi italiani (APAT, Regioni, ARPE)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s. http://www.sinanet.apat.it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2181240" y="457200"/>
            <a:ext cx="499284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685800" y="1066680"/>
            <a:ext cx="82296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 fattori di emissione inseriti nel database sono individuati dai seguenti cam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quina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Combusti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Unità di misura (num. e denom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Tecnologia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Sistema di abbatti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Font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Valore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Incertez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- Priorità (0 – 1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valore 1 utilizzato da 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i="1" lang="it-IT" sz="2400" spc="-1" strike="noStrike">
                <a:solidFill>
                  <a:srgbClr val="ff0000"/>
                </a:solidFill>
                <a:latin typeface="Verdana"/>
              </a:rPr>
              <a:t>Inemar per le s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rcRect l="0" t="0" r="10155" b="18753"/>
          <a:stretch/>
        </p:blipFill>
        <p:spPr>
          <a:xfrm>
            <a:off x="152280" y="685800"/>
            <a:ext cx="876312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9" descr=""/>
          <p:cNvPicPr/>
          <p:nvPr/>
        </p:nvPicPr>
        <p:blipFill>
          <a:blip r:embed="rId1"/>
          <a:srcRect l="0" t="0" r="17188" b="8333"/>
          <a:stretch/>
        </p:blipFill>
        <p:spPr>
          <a:xfrm>
            <a:off x="762120" y="252360"/>
            <a:ext cx="7772400" cy="645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rcRect l="0" t="0" r="11721" b="8333"/>
          <a:stretch/>
        </p:blipFill>
        <p:spPr>
          <a:xfrm>
            <a:off x="609480" y="339840"/>
            <a:ext cx="8077320" cy="628956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rcRect l="0" t="0" r="15626" b="8333"/>
          <a:stretch/>
        </p:blipFill>
        <p:spPr>
          <a:xfrm>
            <a:off x="762120" y="243000"/>
            <a:ext cx="7772400" cy="633240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"/>
          <p:cNvPicPr/>
          <p:nvPr/>
        </p:nvPicPr>
        <p:blipFill>
          <a:blip r:embed="rId1"/>
          <a:srcRect l="0" t="0" r="13282" b="8333"/>
          <a:stretch/>
        </p:blipFill>
        <p:spPr>
          <a:xfrm>
            <a:off x="609480" y="225360"/>
            <a:ext cx="8077320" cy="6404040"/>
          </a:xfrm>
          <a:prstGeom prst="rect">
            <a:avLst/>
          </a:prstGeom>
          <a:ln w="0">
            <a:noFill/>
          </a:ln>
        </p:spPr>
      </p:pic>
    </p:spTree>
  </p:cSld>
  <p:transition spd="med"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27" descr="C:\Convegni\2000\PRQA 1 12 2000\campo.jpg"/>
          <p:cNvPicPr/>
          <p:nvPr/>
        </p:nvPicPr>
        <p:blipFill>
          <a:blip r:embed="rId1"/>
          <a:stretch/>
        </p:blipFill>
        <p:spPr>
          <a:xfrm>
            <a:off x="2895480" y="2438280"/>
            <a:ext cx="3367080" cy="32529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028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000000"/>
                </a:solidFill>
                <a:latin typeface="Verdana"/>
              </a:rPr>
              <a:t>Emissioni diffus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1029"/>
          <p:cNvSpPr/>
          <p:nvPr/>
        </p:nvSpPr>
        <p:spPr>
          <a:xfrm>
            <a:off x="609480" y="1066680"/>
            <a:ext cx="8364600" cy="5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100" spc="-1" strike="noStrike">
                <a:solidFill>
                  <a:srgbClr val="000000"/>
                </a:solidFill>
                <a:latin typeface="Verdana"/>
              </a:rPr>
              <a:t>Emissioni stimate tramite dati statistici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0" descr="C:\Convegni\2000\PRQA 1 12 2000\LEGBNA.JPG"/>
          <p:cNvPicPr/>
          <p:nvPr/>
        </p:nvPicPr>
        <p:blipFill>
          <a:blip r:embed="rId2"/>
          <a:stretch/>
        </p:blipFill>
        <p:spPr>
          <a:xfrm>
            <a:off x="76320" y="2438280"/>
            <a:ext cx="2705040" cy="360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1" descr="C:\Convegni\2000\PRQA 1 12 2000\ASFALTATURA.jpg"/>
          <p:cNvPicPr/>
          <p:nvPr/>
        </p:nvPicPr>
        <p:blipFill>
          <a:blip r:embed="rId3"/>
          <a:stretch/>
        </p:blipFill>
        <p:spPr>
          <a:xfrm>
            <a:off x="6426360" y="2438280"/>
            <a:ext cx="3251160" cy="3333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32"/>
          <p:cNvSpPr/>
          <p:nvPr/>
        </p:nvSpPr>
        <p:spPr>
          <a:xfrm>
            <a:off x="0" y="1752480"/>
            <a:ext cx="944892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missione = A </a:t>
            </a:r>
            <a:r>
              <a:rPr b="1" lang="it-IT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 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Group 1033"/>
          <p:cNvGrpSpPr/>
          <p:nvPr/>
        </p:nvGrpSpPr>
        <p:grpSpPr>
          <a:xfrm>
            <a:off x="685800" y="2232360"/>
            <a:ext cx="4914000" cy="4317120"/>
            <a:chOff x="685800" y="2232360"/>
            <a:chExt cx="4914000" cy="4317120"/>
          </a:xfrm>
        </p:grpSpPr>
        <p:sp>
          <p:nvSpPr>
            <p:cNvPr id="54" name="AutoShape 1034"/>
            <p:cNvSpPr/>
            <p:nvPr/>
          </p:nvSpPr>
          <p:spPr>
            <a:xfrm rot="1956600">
              <a:off x="4800240" y="2286000"/>
              <a:ext cx="533520" cy="1143000"/>
            </a:xfrm>
            <a:prstGeom prst="downArrow">
              <a:avLst>
                <a:gd name="adj1" fmla="val 50000"/>
                <a:gd name="adj2" fmla="val 53559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Text Box 1035"/>
            <p:cNvSpPr/>
            <p:nvPr/>
          </p:nvSpPr>
          <p:spPr>
            <a:xfrm>
              <a:off x="685800" y="3657600"/>
              <a:ext cx="4114800" cy="2891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Indicatore di attivit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: consumi di combustibile, produzione di materiali, superficie coltivata, consumo di materie prime, numero di capi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Group 1036"/>
          <p:cNvGrpSpPr/>
          <p:nvPr/>
        </p:nvGrpSpPr>
        <p:grpSpPr>
          <a:xfrm>
            <a:off x="5181480" y="2226240"/>
            <a:ext cx="4495680" cy="4132800"/>
            <a:chOff x="5181480" y="2226240"/>
            <a:chExt cx="4495680" cy="4132800"/>
          </a:xfrm>
        </p:grpSpPr>
        <p:sp>
          <p:nvSpPr>
            <p:cNvPr id="57" name="Text Box 1037"/>
            <p:cNvSpPr/>
            <p:nvPr/>
          </p:nvSpPr>
          <p:spPr>
            <a:xfrm>
              <a:off x="5181480" y="3657600"/>
              <a:ext cx="4495680" cy="270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ff0000"/>
                  </a:solidFill>
                  <a:latin typeface="Verdana"/>
                </a:rPr>
                <a:t>Fattore di emissi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00"/>
                  </a:solidFill>
                  <a:latin typeface="Verdana"/>
                </a:rPr>
                <a:t>emissione riferita all'unità di attività della sorg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it-IT" sz="2400" spc="-1" strike="noStrike">
                  <a:solidFill>
                    <a:srgbClr val="000000"/>
                  </a:solidFill>
                  <a:latin typeface="Verdana"/>
                </a:rPr>
                <a:t>(es. quantità di inquinante emesso per unità di combustibile consumato, per unità di superficie, ecc.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AutoShape 1038"/>
            <p:cNvSpPr/>
            <p:nvPr/>
          </p:nvSpPr>
          <p:spPr>
            <a:xfrm rot="20401200">
              <a:off x="6048720" y="2286000"/>
              <a:ext cx="552240" cy="1143000"/>
            </a:xfrm>
            <a:prstGeom prst="downArrow">
              <a:avLst>
                <a:gd name="adj1" fmla="val 50000"/>
                <a:gd name="adj2" fmla="val 51744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920" rIns="79920" tIns="39960" bIns="3996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609480" y="380880"/>
            <a:ext cx="836640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600" rIns="846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ati necess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380880" y="1828800"/>
            <a:ext cx="8458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abelle: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icatori (produzioni, consum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attori di emiss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ariabili prox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uni e provi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mbus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Macrosettore Settore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68580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dicato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80880" y="838080"/>
            <a:ext cx="845820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agini presso circa 70 diversi enti, associazioni, aziende (ricerca dati sui siti web o presso altri uffici – ARPA, Regio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produzion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Verdana"/>
              </a:rPr>
              <a:t>consumi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ricavati da enti e associazioni di categoria tra c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Federchimica, Assomet, Federacciai, Federalimentare,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ssovetro, Assocarta, Cepe, Bollettino Petrolifero, Sn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sta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fonti.p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80880" y="4724280"/>
            <a:ext cx="3657600" cy="91440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"/>
          <p:cNvSpPr/>
          <p:nvPr/>
        </p:nvSpPr>
        <p:spPr>
          <a:xfrm>
            <a:off x="4495680" y="510552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0880" y="5791320"/>
            <a:ext cx="3200400" cy="6094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8"/>
          <p:cNvSpPr/>
          <p:nvPr/>
        </p:nvSpPr>
        <p:spPr>
          <a:xfrm>
            <a:off x="4495680" y="58672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57200" y="47242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rchivio cave, MU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cenerit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5943600" y="4952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AR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5943600" y="5715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ffici Reg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45720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agricoltura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4"/>
          <p:cNvSpPr/>
          <p:nvPr/>
        </p:nvSpPr>
        <p:spPr>
          <a:xfrm>
            <a:off x="4495680" y="4267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26"/>
          <p:cNvSpPr/>
          <p:nvPr/>
        </p:nvSpPr>
        <p:spPr>
          <a:xfrm>
            <a:off x="914400" y="609480"/>
            <a:ext cx="7238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Incertezz</a:t>
            </a: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 connesse con l’utilizzo degli indicator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027"/>
          <p:cNvSpPr/>
          <p:nvPr/>
        </p:nvSpPr>
        <p:spPr>
          <a:xfrm>
            <a:off x="914400" y="1676520"/>
            <a:ext cx="731520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Spesso il dato fornito dalle associazioni è disponibile solo a livello naz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disaggregazione attraverso le variabili surrogate (proxy) per ottenere un dato regionale e successivamente uno provinciale (inpu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Incertezza legata alla rappresentatività delle variabili surrogate (ISTA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rchivio ASIA (addet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opol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consumi comunali di meta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1028"/>
          <p:cNvSpPr/>
          <p:nvPr/>
        </p:nvSpPr>
        <p:spPr>
          <a:xfrm>
            <a:off x="4419720" y="22096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210960" y="228600"/>
            <a:ext cx="8510760" cy="21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Disaggregazione spaziale delle emiss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ripartire un dato di emissione stimato ad un livello territoriale aggregato (regione o nazione) ad una porzione di territorio in esso compreso, ad esempio una provincia o un comu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762120" y="2514600"/>
            <a:ext cx="7597800" cy="11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cc"/>
                </a:solidFill>
                <a:latin typeface="Verdana"/>
              </a:rPr>
              <a:t>variabili surrogate (proxy)</a:t>
            </a: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:  indicatori ritenuti in grado di rappresentare la distribuzione del “peso” delle diverse emissioni ne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Object 4" descr=""/>
          <p:cNvPicPr/>
          <p:nvPr/>
        </p:nvPicPr>
        <p:blipFill>
          <a:blip r:embed="rId1"/>
          <a:stretch/>
        </p:blipFill>
        <p:spPr>
          <a:xfrm>
            <a:off x="3657600" y="4038480"/>
            <a:ext cx="1708200" cy="989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422280" y="5105520"/>
            <a:ext cx="8018280" cy="17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emissione tot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l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loc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Verdana"/>
              </a:rPr>
              <a:t>t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= valore totale della variabile surrog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nazionale - region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609480" y="1523880"/>
            <a:ext cx="807732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prodotti da forno (torte, pasticceria, biscotti…)    SNAP 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taliana 2003 (fonte AIDI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2600 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naz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812 e 15820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58762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Lombard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073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Verdana"/>
              </a:rPr>
              <a:t>Produzione in Lombardia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972600 * 9073 / 5876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50172 t  = indicatore region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62120" y="6019920"/>
            <a:ext cx="1295280" cy="4597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266688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304920"/>
            <a:ext cx="807732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Esempio di disaggregazione con prox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(regionale - provinci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609480" y="1676520"/>
            <a:ext cx="8153640" cy="47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Industria alimentare, vino      SNAP 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Produzione in Lombardia 2003 (fonte ISTAT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853183 h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regionali industria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(codici ATECO 15931 e 15932)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977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Addetti in provincia di Pavia: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211 add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990099"/>
                </a:solidFill>
                <a:latin typeface="Verdana"/>
              </a:rPr>
              <a:t>Vino prodotto (PV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= 853183 * 211 / 9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= 184260 hl  = indicatore provin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057400" y="6095880"/>
            <a:ext cx="762120" cy="228600"/>
          </a:xfrm>
          <a:prstGeom prst="leftArrow">
            <a:avLst>
              <a:gd name="adj1" fmla="val 50000"/>
              <a:gd name="adj2" fmla="val 83346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762120" y="6019920"/>
            <a:ext cx="1066680" cy="459720"/>
          </a:xfrm>
          <a:prstGeom prst="rect">
            <a:avLst/>
          </a:prstGeom>
          <a:noFill/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4.6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457200" y="4572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Verdana"/>
              </a:rPr>
              <a:t>Unità di mis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8229600" cy="52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La maggior parte degli indicatori utilizzati è espresso con le seguenti unità di mis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Tonnellate (t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produzioni e consu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Ettari (ha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coltivazioni, foreste, ince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Unità (-)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umero di capi, abitanti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Verdana"/>
              </a:rPr>
              <a:t>Eccezione per tutte le attività dipendenti dai combustibi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Verdana"/>
              </a:rPr>
              <a:t>Gigajoule (Gj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</a:rPr>
              <a:t>PCI nella tabella COMBUST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57200" y="4419720"/>
            <a:ext cx="8458200" cy="1676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08:02:38Z</dcterms:created>
  <dc:creator>AFRACCAROLI</dc:creator>
  <dc:description/>
  <dc:language>en-US</dc:language>
  <cp:lastModifiedBy>PANTALEO ALESSANDRA</cp:lastModifiedBy>
  <dcterms:modified xsi:type="dcterms:W3CDTF">2017-04-28T08:44:07Z</dcterms:modified>
  <cp:revision>37</cp:revision>
  <dc:subject/>
  <dc:title>Presentazione di PowerPoint</dc:title>
</cp:coreProperties>
</file>