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C0B-6342-4533-9CE0-734F52FA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5B5-C23B-4779-97F5-AF7E392E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DAB4-45D3-40FE-806A-EC9A98F4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37A-DF94-420C-BF14-32D59AFD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109B-584B-479C-A8AF-301722FF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70D5-2176-41AC-8E20-B9C11C13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243A-72AC-4EEE-8897-43BD7C05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E6F-1AC9-45F0-BCD3-B4FA47D0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5992-543D-4772-B3E7-3A181FCF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B79-3E4F-4B87-8948-9D67AC8C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AE2C-7035-4098-B045-26C0EC50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F57F-03F3-49C4-9AC8-1A1D15A5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3523-DC1E-41AD-9487-2A875CAE710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93760" y="2487600"/>
            <a:ext cx="8834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192400" y="5486400"/>
            <a:ext cx="503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568520" cy="1413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166400" y="3275280"/>
            <a:ext cx="713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</a:rPr>
              <a:t>Il modulo delle emissioni diff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C:\Documents and Settings\AFRACCAROLI\Documenti\Immagini\logo.bmp"/>
          <p:cNvPicPr/>
          <p:nvPr/>
        </p:nvPicPr>
        <p:blipFill>
          <a:blip r:embed="rId2"/>
          <a:stretch/>
        </p:blipFill>
        <p:spPr>
          <a:xfrm>
            <a:off x="5791320" y="228600"/>
            <a:ext cx="3114720" cy="82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92120" y="990720"/>
            <a:ext cx="8159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Sono reperibili in letteratura numerosi dati di fattori di emissione. 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I dati sono riportati in funzione del tipo di impianto, del combustibile e delle tecnologie di depurazione dei fu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304280" y="3048120"/>
            <a:ext cx="64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Europei (Corinair, EEA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ttp://reports.eea.eu.int/EMEPCORINAIR/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835280" y="5486400"/>
            <a:ext cx="50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USA (EPA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http://www.epa.gov/ttn/chief/ei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604880" y="4267080"/>
            <a:ext cx="58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medi italiani (APAT, Regioni, ARPE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. http://www.sinanet.apat.i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85800" y="106668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fattori di emissione inseriti nel database sono individuati dai seguenti ca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quina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Unità di misura (num. e den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Tecnologi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Sistema di abbat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Fo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Valor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cert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Priorità (0 – 1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valore 1 utilizzato da 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Inemar per le s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rcRect l="0" t="0" r="10155" b="18753"/>
          <a:stretch/>
        </p:blipFill>
        <p:spPr>
          <a:xfrm>
            <a:off x="152280" y="685800"/>
            <a:ext cx="876312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"/>
          <p:cNvPicPr/>
          <p:nvPr/>
        </p:nvPicPr>
        <p:blipFill>
          <a:blip r:embed="rId1"/>
          <a:srcRect l="0" t="0" r="17188" b="8333"/>
          <a:stretch/>
        </p:blipFill>
        <p:spPr>
          <a:xfrm>
            <a:off x="762120" y="252360"/>
            <a:ext cx="7772400" cy="645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rcRect l="0" t="0" r="11721" b="8333"/>
          <a:stretch/>
        </p:blipFill>
        <p:spPr>
          <a:xfrm>
            <a:off x="609480" y="339840"/>
            <a:ext cx="8077320" cy="6289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rcRect l="0" t="0" r="15626" b="8333"/>
          <a:stretch/>
        </p:blipFill>
        <p:spPr>
          <a:xfrm>
            <a:off x="762120" y="243000"/>
            <a:ext cx="7772400" cy="6332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rcRect l="0" t="0" r="13282" b="8333"/>
          <a:stretch/>
        </p:blipFill>
        <p:spPr>
          <a:xfrm>
            <a:off x="609480" y="225360"/>
            <a:ext cx="8077320" cy="6404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27" descr="C:\Convegni\2000\PRQA 1 12 2000\campo.jpg"/>
          <p:cNvPicPr/>
          <p:nvPr/>
        </p:nvPicPr>
        <p:blipFill>
          <a:blip r:embed="rId1"/>
          <a:stretch/>
        </p:blipFill>
        <p:spPr>
          <a:xfrm>
            <a:off x="2895480" y="2438280"/>
            <a:ext cx="3367080" cy="3252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28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000000"/>
                </a:solidFill>
                <a:latin typeface="Verdana"/>
              </a:rPr>
              <a:t>Emissioni diff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29"/>
          <p:cNvSpPr/>
          <p:nvPr/>
        </p:nvSpPr>
        <p:spPr>
          <a:xfrm>
            <a:off x="609480" y="1066680"/>
            <a:ext cx="83646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100" spc="-1" strike="noStrike">
                <a:solidFill>
                  <a:srgbClr val="000000"/>
                </a:solidFill>
                <a:latin typeface="Verdana"/>
              </a:rPr>
              <a:t>Emissioni stimate tramite dati statistici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30" descr="C:\Convegni\2000\PRQA 1 12 2000\LEGBNA.JPG"/>
          <p:cNvPicPr/>
          <p:nvPr/>
        </p:nvPicPr>
        <p:blipFill>
          <a:blip r:embed="rId2"/>
          <a:stretch/>
        </p:blipFill>
        <p:spPr>
          <a:xfrm>
            <a:off x="76320" y="2438280"/>
            <a:ext cx="2705040" cy="360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1" descr="C:\Convegni\2000\PRQA 1 12 2000\ASFALTATURA.jpg"/>
          <p:cNvPicPr/>
          <p:nvPr/>
        </p:nvPicPr>
        <p:blipFill>
          <a:blip r:embed="rId3"/>
          <a:stretch/>
        </p:blipFill>
        <p:spPr>
          <a:xfrm>
            <a:off x="6426360" y="2438280"/>
            <a:ext cx="3251160" cy="3333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2"/>
          <p:cNvSpPr/>
          <p:nvPr/>
        </p:nvSpPr>
        <p:spPr>
          <a:xfrm>
            <a:off x="0" y="1752480"/>
            <a:ext cx="94489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missione = A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033"/>
          <p:cNvGrpSpPr/>
          <p:nvPr/>
        </p:nvGrpSpPr>
        <p:grpSpPr>
          <a:xfrm>
            <a:off x="685800" y="2232360"/>
            <a:ext cx="4914000" cy="4317120"/>
            <a:chOff x="685800" y="2232360"/>
            <a:chExt cx="4914000" cy="4317120"/>
          </a:xfrm>
        </p:grpSpPr>
        <p:sp>
          <p:nvSpPr>
            <p:cNvPr id="54" name="AutoShape 1034"/>
            <p:cNvSpPr/>
            <p:nvPr/>
          </p:nvSpPr>
          <p:spPr>
            <a:xfrm rot="1956600">
              <a:off x="4800240" y="2286000"/>
              <a:ext cx="533520" cy="1143000"/>
            </a:xfrm>
            <a:prstGeom prst="downArrow">
              <a:avLst>
                <a:gd name="adj1" fmla="val 50000"/>
                <a:gd name="adj2" fmla="val 5355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035"/>
            <p:cNvSpPr/>
            <p:nvPr/>
          </p:nvSpPr>
          <p:spPr>
            <a:xfrm>
              <a:off x="685800" y="3657600"/>
              <a:ext cx="4114800" cy="28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Indicatore di attivit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: consumi di combustibile, produzione di materiali, superficie coltivata, consumo di materie prime, numero di capi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1036"/>
          <p:cNvGrpSpPr/>
          <p:nvPr/>
        </p:nvGrpSpPr>
        <p:grpSpPr>
          <a:xfrm>
            <a:off x="5181480" y="2226240"/>
            <a:ext cx="4495680" cy="4132800"/>
            <a:chOff x="5181480" y="2226240"/>
            <a:chExt cx="4495680" cy="4132800"/>
          </a:xfrm>
        </p:grpSpPr>
        <p:sp>
          <p:nvSpPr>
            <p:cNvPr id="57" name="Text Box 1037"/>
            <p:cNvSpPr/>
            <p:nvPr/>
          </p:nvSpPr>
          <p:spPr>
            <a:xfrm>
              <a:off x="5181480" y="3657600"/>
              <a:ext cx="4495680" cy="270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Fattore di emissi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Verdana"/>
                </a:rPr>
                <a:t>emissione riferita all'unità di attività della sorg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. quantità di inquinante emesso per unità di combustibile consumato, per unità di superficie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1038"/>
            <p:cNvSpPr/>
            <p:nvPr/>
          </p:nvSpPr>
          <p:spPr>
            <a:xfrm rot="20401200">
              <a:off x="6048720" y="2286000"/>
              <a:ext cx="552240" cy="1143000"/>
            </a:xfrm>
            <a:prstGeom prst="downArrow">
              <a:avLst>
                <a:gd name="adj1" fmla="val 50000"/>
                <a:gd name="adj2" fmla="val 5174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ati necess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80880" y="1828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belle: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icatori (produzioni, consu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ariabili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uni e prov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bust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acrosettore Settore Attiv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dic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0880" y="838080"/>
            <a:ext cx="845820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agini presso circa 70 diversi enti, associazioni, aziende (ricerca dati sui siti web o presso altri uffici – ARPA, Reg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produzion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consum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ricavati da enti e associazioni di categoria tra c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ederchimica, Assomet, Federacciai, Federalimentare,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ssovetro, Assocarta, Cepe, Bollettino Petrolifero, Sn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sta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fonti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80880" y="4724280"/>
            <a:ext cx="3657600" cy="91440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4495680" y="510552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0880" y="5791320"/>
            <a:ext cx="3200400" cy="6094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495680" y="58672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57200" y="4724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rchivio cave, MU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ceneri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943600" y="4952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594360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Reg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5720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gricoltura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4495680" y="4267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26"/>
          <p:cNvSpPr/>
          <p:nvPr/>
        </p:nvSpPr>
        <p:spPr>
          <a:xfrm>
            <a:off x="914400" y="609480"/>
            <a:ext cx="7238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certezz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 connesse con l’utilizzo degli indicator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27"/>
          <p:cNvSpPr/>
          <p:nvPr/>
        </p:nvSpPr>
        <p:spPr>
          <a:xfrm>
            <a:off x="914400" y="1676520"/>
            <a:ext cx="731520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pesso il dato fornito dalle associazioni è disponibile solo a livello n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isaggregazione attraverso le variabili surrogate (proxy) per ottenere un dato regionale e successivamente uno provinciale (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certezza legata alla rappresentatività delle variabili surrogate (IST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rchivio ASIA (addet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opo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sumi comunali di met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028"/>
          <p:cNvSpPr/>
          <p:nvPr/>
        </p:nvSpPr>
        <p:spPr>
          <a:xfrm>
            <a:off x="441972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10960" y="228600"/>
            <a:ext cx="8510760" cy="21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isaggregazione spaziale delle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ipartire un dato di emissione stimato ad un livello territoriale aggregato (regione o nazione) ad una porzione di territorio in esso compreso, ad esempio una provincia o un com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762120" y="2514600"/>
            <a:ext cx="75978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Verdana"/>
              </a:rPr>
              <a:t>variabili surrogate (proxy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:  indicatori ritenuti in grado di rappresentare la distribuzione del “peso” delle diverse emissioni nel terr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4" descr=""/>
          <p:cNvPicPr/>
          <p:nvPr/>
        </p:nvPicPr>
        <p:blipFill>
          <a:blip r:embed="rId1"/>
          <a:stretch/>
        </p:blipFill>
        <p:spPr>
          <a:xfrm>
            <a:off x="3657600" y="4038480"/>
            <a:ext cx="1708200" cy="989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422280" y="5105520"/>
            <a:ext cx="801828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l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tot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loc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tot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nazionale - region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1523880"/>
            <a:ext cx="80773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prodotti da forno (torte, pasticceria, biscotti…)    SNAP 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taliana 2003 (fonte AIDI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2600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naz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812 e 15820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58762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Lombard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073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n Lombardi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972600 * 9073 / 587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50172 t  = indicatore reg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62120" y="6019920"/>
            <a:ext cx="129528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266688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regionale - provinci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09480" y="1676520"/>
            <a:ext cx="815364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vino      SNAP 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Produzione in Lombardia 2003 (fonte ISTAT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853183 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reg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931 e 15932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7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provincia di Pav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211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Vino prodotto (PV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853183 * 211 / 9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84260 hl  = indicatore provin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05740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62120" y="6019920"/>
            <a:ext cx="1066680" cy="4597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57200" y="457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Unità di mis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8229600" cy="52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maggior parte degli indicatori utilizzati è espresso con le seguenti unità di mis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onnellate (t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oduzioni e con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ttari (ha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ltivazioni, foreste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ità (-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umero di capi, abitanti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Eccezione per tutte le attività dipendenti dai combustibi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Gigajoule (G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CI nella tabella COMBUSTI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4419720"/>
            <a:ext cx="8458200" cy="1676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08:02:38Z</dcterms:created>
  <dc:creator>AFRACCAROLI</dc:creator>
  <dc:description/>
  <dc:language>en-US</dc:language>
  <cp:lastModifiedBy>PANTALEO ALESSANDRA</cp:lastModifiedBy>
  <dcterms:modified xsi:type="dcterms:W3CDTF">2017-04-28T08:44:07Z</dcterms:modified>
  <cp:revision>37</cp:revision>
  <dc:subject/>
  <dc:title>Presentazione di PowerPoint</dc:title>
</cp:coreProperties>
</file>