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DD14-016D-4423-BA69-73C30D824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FB38-8F44-4B05-A9BC-8D7CD2CA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5200-C931-4EE8-A1EE-C205D7E83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2F1C-000A-4F88-9B2F-8D2353635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8AC7-13ED-4CF7-A67E-BFB1A112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456A-C027-44B9-8EB1-2370197B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C663-6833-40E3-BA19-98BDF7CD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2E08-4856-44CA-980D-EFF7ECDC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7E6A-391E-4775-B33B-497EEA68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4646-BE09-4C50-B0EC-0E8B245D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4B1A-B72B-425A-8C95-227A2386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2119-58DD-44D7-BA35-0F440DC8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7F9D-8D6D-4E5E-BB45-DECC8AAB865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93760" y="2487600"/>
            <a:ext cx="88344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2192400" y="5486400"/>
            <a:ext cx="5035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g. Anna Fraccar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568520" cy="1413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1166400" y="3275280"/>
            <a:ext cx="713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Verdana"/>
              </a:rPr>
              <a:t>Il modulo delle emissioni diff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8" descr="C:\Documents and Settings\AFRACCAROLI\Documenti\Immagini\logo.bmp"/>
          <p:cNvPicPr/>
          <p:nvPr/>
        </p:nvPicPr>
        <p:blipFill>
          <a:blip r:embed="rId2"/>
          <a:stretch/>
        </p:blipFill>
        <p:spPr>
          <a:xfrm>
            <a:off x="5791320" y="228600"/>
            <a:ext cx="3114720" cy="828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492120" y="990720"/>
            <a:ext cx="815976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Sono reperibili in letteratura numerosi dati di fattori di emissione. </a:t>
            </a:r>
            <a:br>
              <a:rPr sz="2400"/>
            </a:b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I dati sono riportati in funzione del tipo di impianto, del combustibile e delle tecnologie di depurazione dei fum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1304280" y="3048120"/>
            <a:ext cx="646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dati Europei (Corinair, EEA)</a:t>
            </a: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ttp://reports.eea.eu.int/EMEPCORINAIR/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835280" y="5486400"/>
            <a:ext cx="509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dati USA (EPA)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http://www.epa.gov/ttn/chief/ei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604880" y="4267080"/>
            <a:ext cx="582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dati medi italiani (APAT, Regioni, ARPE)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s. http://www.sinanet.apat.it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2181240" y="457200"/>
            <a:ext cx="499284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Fattori di emiss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2181240" y="457200"/>
            <a:ext cx="499284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Fattori di emiss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685800" y="1066680"/>
            <a:ext cx="82296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 fattori di emissione inseriti nel database sono individuati dai seguenti cam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Inquinant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Combusti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Unità di misura (num. e denom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Tecnologi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Sistema di abbatt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Font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N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Valor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Incertez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Priorità (0 – 1)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valore 1 utilizzato da 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Inemar per le s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"/>
          <p:cNvPicPr/>
          <p:nvPr/>
        </p:nvPicPr>
        <p:blipFill>
          <a:blip r:embed="rId1"/>
          <a:srcRect l="0" t="0" r="10155" b="18753"/>
          <a:stretch/>
        </p:blipFill>
        <p:spPr>
          <a:xfrm>
            <a:off x="152280" y="685800"/>
            <a:ext cx="8763120" cy="59436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9" descr=""/>
          <p:cNvPicPr/>
          <p:nvPr/>
        </p:nvPicPr>
        <p:blipFill>
          <a:blip r:embed="rId1"/>
          <a:srcRect l="0" t="0" r="17188" b="8333"/>
          <a:stretch/>
        </p:blipFill>
        <p:spPr>
          <a:xfrm>
            <a:off x="762120" y="252360"/>
            <a:ext cx="7772400" cy="6453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rcRect l="0" t="0" r="11721" b="8333"/>
          <a:stretch/>
        </p:blipFill>
        <p:spPr>
          <a:xfrm>
            <a:off x="609480" y="339840"/>
            <a:ext cx="8077320" cy="62895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"/>
          <p:cNvPicPr/>
          <p:nvPr/>
        </p:nvPicPr>
        <p:blipFill>
          <a:blip r:embed="rId1"/>
          <a:srcRect l="0" t="0" r="15626" b="8333"/>
          <a:stretch/>
        </p:blipFill>
        <p:spPr>
          <a:xfrm>
            <a:off x="762120" y="243000"/>
            <a:ext cx="7772400" cy="63324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" descr=""/>
          <p:cNvPicPr/>
          <p:nvPr/>
        </p:nvPicPr>
        <p:blipFill>
          <a:blip r:embed="rId1"/>
          <a:srcRect l="0" t="0" r="13282" b="8333"/>
          <a:stretch/>
        </p:blipFill>
        <p:spPr>
          <a:xfrm>
            <a:off x="609480" y="225360"/>
            <a:ext cx="8077320" cy="640404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27" descr="C:\Convegni\2000\PRQA 1 12 2000\campo.jpg"/>
          <p:cNvPicPr/>
          <p:nvPr/>
        </p:nvPicPr>
        <p:blipFill>
          <a:blip r:embed="rId1"/>
          <a:stretch/>
        </p:blipFill>
        <p:spPr>
          <a:xfrm>
            <a:off x="2895480" y="2438280"/>
            <a:ext cx="3367080" cy="32529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028"/>
          <p:cNvSpPr/>
          <p:nvPr/>
        </p:nvSpPr>
        <p:spPr>
          <a:xfrm>
            <a:off x="609480" y="380880"/>
            <a:ext cx="83664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100" spc="-1" strike="noStrike">
                <a:solidFill>
                  <a:srgbClr val="000000"/>
                </a:solidFill>
                <a:latin typeface="Verdana"/>
              </a:rPr>
              <a:t>Emissioni diffus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029"/>
          <p:cNvSpPr/>
          <p:nvPr/>
        </p:nvSpPr>
        <p:spPr>
          <a:xfrm>
            <a:off x="609480" y="1066680"/>
            <a:ext cx="83646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100" spc="-1" strike="noStrike">
                <a:solidFill>
                  <a:srgbClr val="000000"/>
                </a:solidFill>
                <a:latin typeface="Verdana"/>
              </a:rPr>
              <a:t>Emissioni stimate tramite dati statistici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030" descr="C:\Convegni\2000\PRQA 1 12 2000\LEGBNA.JPG"/>
          <p:cNvPicPr/>
          <p:nvPr/>
        </p:nvPicPr>
        <p:blipFill>
          <a:blip r:embed="rId2"/>
          <a:stretch/>
        </p:blipFill>
        <p:spPr>
          <a:xfrm>
            <a:off x="76320" y="2438280"/>
            <a:ext cx="2705040" cy="360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31" descr="C:\Convegni\2000\PRQA 1 12 2000\ASFALTATURA.jpg"/>
          <p:cNvPicPr/>
          <p:nvPr/>
        </p:nvPicPr>
        <p:blipFill>
          <a:blip r:embed="rId3"/>
          <a:stretch/>
        </p:blipFill>
        <p:spPr>
          <a:xfrm>
            <a:off x="6426360" y="2438280"/>
            <a:ext cx="3251160" cy="33339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32"/>
          <p:cNvSpPr/>
          <p:nvPr/>
        </p:nvSpPr>
        <p:spPr>
          <a:xfrm>
            <a:off x="0" y="1752480"/>
            <a:ext cx="94489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Emissione = A </a:t>
            </a:r>
            <a:r>
              <a:rPr b="1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 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1033"/>
          <p:cNvGrpSpPr/>
          <p:nvPr/>
        </p:nvGrpSpPr>
        <p:grpSpPr>
          <a:xfrm>
            <a:off x="685800" y="2232360"/>
            <a:ext cx="4914000" cy="4317120"/>
            <a:chOff x="685800" y="2232360"/>
            <a:chExt cx="4914000" cy="4317120"/>
          </a:xfrm>
        </p:grpSpPr>
        <p:sp>
          <p:nvSpPr>
            <p:cNvPr id="54" name="AutoShape 1034"/>
            <p:cNvSpPr/>
            <p:nvPr/>
          </p:nvSpPr>
          <p:spPr>
            <a:xfrm rot="1956600">
              <a:off x="4800240" y="2286000"/>
              <a:ext cx="533520" cy="1143000"/>
            </a:xfrm>
            <a:prstGeom prst="downArrow">
              <a:avLst>
                <a:gd name="adj1" fmla="val 50000"/>
                <a:gd name="adj2" fmla="val 53559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Text Box 1035"/>
            <p:cNvSpPr/>
            <p:nvPr/>
          </p:nvSpPr>
          <p:spPr>
            <a:xfrm>
              <a:off x="685800" y="3657600"/>
              <a:ext cx="4114800" cy="28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Verdana"/>
                </a:rPr>
                <a:t>Indicatore di attivit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Verdana"/>
                </a:rPr>
                <a:t>(es: consumi di combustibile, produzione di materiali, superficie coltivata, consumo di materie prime, numero di capi, ecc.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Group 1036"/>
          <p:cNvGrpSpPr/>
          <p:nvPr/>
        </p:nvGrpSpPr>
        <p:grpSpPr>
          <a:xfrm>
            <a:off x="5181480" y="2226240"/>
            <a:ext cx="4495680" cy="4132800"/>
            <a:chOff x="5181480" y="2226240"/>
            <a:chExt cx="4495680" cy="4132800"/>
          </a:xfrm>
        </p:grpSpPr>
        <p:sp>
          <p:nvSpPr>
            <p:cNvPr id="57" name="Text Box 1037"/>
            <p:cNvSpPr/>
            <p:nvPr/>
          </p:nvSpPr>
          <p:spPr>
            <a:xfrm>
              <a:off x="5181480" y="3657600"/>
              <a:ext cx="4495680" cy="270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Verdana"/>
                </a:rPr>
                <a:t>Fattore di emissio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400" spc="-1" strike="noStrike">
                  <a:solidFill>
                    <a:srgbClr val="000000"/>
                  </a:solidFill>
                  <a:latin typeface="Verdana"/>
                </a:rPr>
                <a:t>emissione riferita all'unità di attività della sorge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it-IT" sz="2400" spc="-1" strike="noStrike">
                  <a:solidFill>
                    <a:srgbClr val="000000"/>
                  </a:solidFill>
                  <a:latin typeface="Verdana"/>
                </a:rPr>
                <a:t>(es. quantità di inquinante emesso per unità di combustibile consumato, per unità di superficie, ecc.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AutoShape 1038"/>
            <p:cNvSpPr/>
            <p:nvPr/>
          </p:nvSpPr>
          <p:spPr>
            <a:xfrm rot="20401200">
              <a:off x="6048720" y="2286000"/>
              <a:ext cx="552240" cy="1143000"/>
            </a:xfrm>
            <a:prstGeom prst="downArrow">
              <a:avLst>
                <a:gd name="adj1" fmla="val 50000"/>
                <a:gd name="adj2" fmla="val 51744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609480" y="380880"/>
            <a:ext cx="83664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Dati necessa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80880" y="182880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abelle: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dicatori (produzioni, consum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Fattori di emiss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Variabili pro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muni e provi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mbustib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Macrosettore Settore Attiv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Indica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380880" y="838080"/>
            <a:ext cx="845820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dagini presso circa 70 diversi enti, associazioni, aziende (ricerca dati sui siti web o presso altri uffici – ARPA, Regi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Verdana"/>
              </a:rPr>
              <a:t>produzioni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Verdana"/>
              </a:rPr>
              <a:t>consumi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ricavati da enti e associazioni di categoria tra c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Federchimica, Assomet, Federacciai, Federalimentare,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ssovetro, Assocarta, Cepe, Bollettino Petrolifero, Sn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stat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it-IT" sz="2400" spc="-1" strike="noStrike">
                <a:solidFill>
                  <a:srgbClr val="ff0000"/>
                </a:solidFill>
                <a:latin typeface="Verdana"/>
              </a:rPr>
              <a:t>fonti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380880" y="4724280"/>
            <a:ext cx="3657600" cy="91440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6"/>
          <p:cNvSpPr/>
          <p:nvPr/>
        </p:nvSpPr>
        <p:spPr>
          <a:xfrm>
            <a:off x="4495680" y="5105520"/>
            <a:ext cx="1067040" cy="228600"/>
          </a:xfrm>
          <a:prstGeom prst="rightArrow">
            <a:avLst>
              <a:gd name="adj1" fmla="val 50000"/>
              <a:gd name="adj2" fmla="val 11669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80880" y="5791320"/>
            <a:ext cx="3200400" cy="6094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8"/>
          <p:cNvSpPr/>
          <p:nvPr/>
        </p:nvSpPr>
        <p:spPr>
          <a:xfrm>
            <a:off x="4495680" y="5867280"/>
            <a:ext cx="1067040" cy="228600"/>
          </a:xfrm>
          <a:prstGeom prst="rightArrow">
            <a:avLst>
              <a:gd name="adj1" fmla="val 50000"/>
              <a:gd name="adj2" fmla="val 11669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457200" y="47242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rchivio cave, MU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ceneri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5943600" y="4952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ffici AR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5943600" y="5715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ffici Reg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457200" y="5791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gricoltura, incen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4"/>
          <p:cNvSpPr/>
          <p:nvPr/>
        </p:nvSpPr>
        <p:spPr>
          <a:xfrm>
            <a:off x="4495680" y="4267080"/>
            <a:ext cx="1067040" cy="228600"/>
          </a:xfrm>
          <a:prstGeom prst="rightArrow">
            <a:avLst>
              <a:gd name="adj1" fmla="val 50000"/>
              <a:gd name="adj2" fmla="val 11669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026"/>
          <p:cNvSpPr/>
          <p:nvPr/>
        </p:nvSpPr>
        <p:spPr>
          <a:xfrm>
            <a:off x="914400" y="609480"/>
            <a:ext cx="7238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Incertezz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e connesse con l’utilizzo degli indicator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27"/>
          <p:cNvSpPr/>
          <p:nvPr/>
        </p:nvSpPr>
        <p:spPr>
          <a:xfrm>
            <a:off x="914400" y="1676520"/>
            <a:ext cx="7315200" cy="46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pesso il dato fornito dalle associazioni è disponibile solo a livello nazio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disaggregazione attraverso le variabili surrogate (proxy) per ottenere un dato regionale e successivamente uno provinciale (inpu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certezza legata alla rappresentatività delle variabili surrogate (IST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rchivio ASIA (addett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opol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nsumi comunali di meta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1028"/>
          <p:cNvSpPr/>
          <p:nvPr/>
        </p:nvSpPr>
        <p:spPr>
          <a:xfrm>
            <a:off x="4419720" y="220968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210960" y="228600"/>
            <a:ext cx="8510760" cy="21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Disaggregazione spaziale delle emiss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ripartire un dato di emissione stimato ad un livello territoriale aggregato (regione o nazione) ad una porzione di territorio in esso compreso, ad esempio una provincia o un com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762120" y="2514600"/>
            <a:ext cx="7597800" cy="11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Verdana"/>
              </a:rPr>
              <a:t>variabili surrogate (proxy)</a:t>
            </a: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:  indicatori ritenuti in grado di rappresentare la distribuzione del “peso” delle diverse emissioni nel terri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Object 4" descr=""/>
          <p:cNvPicPr/>
          <p:nvPr/>
        </p:nvPicPr>
        <p:blipFill>
          <a:blip r:embed="rId1"/>
          <a:stretch/>
        </p:blipFill>
        <p:spPr>
          <a:xfrm>
            <a:off x="3657600" y="4038480"/>
            <a:ext cx="1708200" cy="9892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422280" y="5105520"/>
            <a:ext cx="801828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Verdana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= emissione lo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= emissione tot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Verdana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= valore locale della variabile surrog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= valore totale della variabile surrog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457200" y="304920"/>
            <a:ext cx="80773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Esempio di disaggregazione con prox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(nazionale - regiona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609480" y="1523880"/>
            <a:ext cx="8077320" cy="49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dustria alimentare, prodotti da forno (torte, pasticceria, biscotti…)    SNAP 4.6.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6600"/>
                </a:solidFill>
                <a:latin typeface="Verdana"/>
              </a:rPr>
              <a:t>Produzione italiana 2003 (fonte AIDI)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972600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ddetti nazionali industria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(codici ATECO 15812 e 15820)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58762 add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ddetti in Lombardia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9073 add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6600"/>
                </a:solidFill>
                <a:latin typeface="Verdana"/>
              </a:rPr>
              <a:t>Produzione in Lombardi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972600 * 9073 / 5876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= 150172 t  = indicatore regio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762120" y="6019920"/>
            <a:ext cx="1295280" cy="45972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4.6.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2666880" y="609588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457200" y="304920"/>
            <a:ext cx="80773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Esempio di disaggregazione con prox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(regionale - provincia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609480" y="1676520"/>
            <a:ext cx="815364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dustria alimentare, vino      SNAP 4.6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99"/>
                </a:solidFill>
                <a:latin typeface="Verdana"/>
              </a:rPr>
              <a:t>Produzione in Lombardia 2003 (fonte ISTAT)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853183 h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ddetti regionali industria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(codici ATECO 15931 e 15932)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977 add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ddetti in provincia di Pavia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211 add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99"/>
                </a:solidFill>
                <a:latin typeface="Verdana"/>
              </a:rPr>
              <a:t>Vino prodotto (PV)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853183 * 211 / 9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= 184260 hl  = indicatore provinc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057400" y="609588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762120" y="6019920"/>
            <a:ext cx="1066680" cy="459720"/>
          </a:xfrm>
          <a:prstGeom prst="rect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4.6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457200" y="4572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Unità di mis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33520" y="1219320"/>
            <a:ext cx="8229600" cy="52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a maggior parte degli indicatori utilizzati è espresso con le seguenti unità di misu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onnellate (t)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roduzioni e consu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ttari (ha)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ltivazioni, foreste, incen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nità (-)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numero di capi, abitanti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Eccezione per tutte le attività dipendenti dai combustibil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Verdana"/>
              </a:rPr>
              <a:t>Gigajoule (G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CI nella tabella COMBUSTIBI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57200" y="4419720"/>
            <a:ext cx="8458200" cy="1676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4T08:02:38Z</dcterms:created>
  <dc:creator>AFRACCAROLI</dc:creator>
  <dc:description/>
  <dc:language>en-US</dc:language>
  <cp:lastModifiedBy>PANTALEO ALESSANDRA</cp:lastModifiedBy>
  <dcterms:modified xsi:type="dcterms:W3CDTF">2017-04-28T08:44:07Z</dcterms:modified>
  <cp:revision>37</cp:revision>
  <dc:subject/>
  <dc:title>Presentazione di PowerPoint</dc:title>
</cp:coreProperties>
</file>