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9932988" cy="6792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5A705-3042-4568-8EA3-6489D3427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02010-3A0B-41BA-BE6A-0D0557039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24992-C01E-43DE-B3C8-9215138AA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C7685-E791-4F78-B594-0F6FF4171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24CC1-38D2-4E4E-A00A-206721B6D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CB78D-BB0F-4A69-872E-F97B29983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B3710-3C49-464F-9A94-7302CF9E9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A7B75-8927-4CCE-93BF-E8E615A84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C39FB-D09A-49F2-9606-EEF981F1C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3104E-A376-437C-92EE-D6E1E8CEB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00EEE-B172-47C5-A203-E1B72D502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80F58-1C0E-4D84-9669-4DC0EEA6B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6505D-EE56-45D2-BFBF-63FEB79EE711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6360" y="2411280"/>
            <a:ext cx="8154720" cy="40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653000" y="2484360"/>
            <a:ext cx="36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04920" y="152280"/>
            <a:ext cx="1295280" cy="12636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2166480"/>
            <a:ext cx="9144000" cy="356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3333cc"/>
                </a:solidFill>
                <a:latin typeface="Times New Roman"/>
              </a:rPr>
              <a:t>INEM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3333cc"/>
                </a:solidFill>
                <a:latin typeface="Times New Roman"/>
              </a:rPr>
              <a:t>Inventario emission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3333cc"/>
                </a:solidFill>
                <a:latin typeface="Times New Roman"/>
              </a:rPr>
              <a:t>Versione 5_0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Il Modulo export dati puntuali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per modellistic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172200" y="152280"/>
            <a:ext cx="2752560" cy="9144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1116000" y="235080"/>
            <a:ext cx="711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Times New Roman"/>
              </a:rPr>
              <a:t>EMISSIONI DI POLVERI DA GRANULOMET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09480" y="1182600"/>
            <a:ext cx="80661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Il modulo polveri fini prende i dati dal modulo puntuali per attività SNAP senza dettaglio di linea, e li scrive nella tabell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TAB_OUTPUT_DETT_PM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È quindi necessario che gli stessi algoritmi siano utilizzati per associare alle linee e ai camini le emissioni da granulometria, in modo simile a quanto sopra esposto per le emissioni puntuali stima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L’algoritmo si differenzia per due possibili casi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il primo si basa sulle emissioni misurate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il secondo sulle emissioni stimate da fattori di emissi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2489040" y="189000"/>
            <a:ext cx="387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a) EMISSIONI MIS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50920" y="905760"/>
            <a:ext cx="8431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Per ogni linea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e per ogni associazione di attività SNAP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att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inquinante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inq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e combustibile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comb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, a partire dall’emissione misurata di PTS, l’emissione che il sistema dovrà calcolare in ogni caso sarà data da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395280" y="2992320"/>
                <a:ext cx="8209080" cy="36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EPM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PM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PM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)</m:t>
                        </m:r>
                      </m:e>
                      <m:sub>
                        <m:r>
                          <m:t xml:space="preserve">l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att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inq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comb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EPM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PTS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id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sSub>
                      <m:e>
                        <m:r>
                          <m:t xml:space="preserve">)</m:t>
                        </m:r>
                      </m:e>
                      <m:sub>
                        <m:r>
                          <m:t xml:space="preserve">l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att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comb</m:t>
                        </m:r>
                      </m:sub>
                    </m:sSub>
                    <m:r>
                      <m:t xml:space="preserve">∗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perc</m:t>
                        </m: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is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tt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nq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mb</m:t>
                            </m:r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1" name=""/>
          <p:cNvSpPr/>
          <p:nvPr/>
        </p:nvSpPr>
        <p:spPr>
          <a:xfrm>
            <a:off x="396720" y="3641400"/>
            <a:ext cx="8352000" cy="175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Dov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perc_dist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Times New Roman"/>
              </a:rPr>
              <a:t>att,inq,comb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è la percentuale granulometrica per l’attività SNAP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att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, l’inquinante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inq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e il combustibile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comb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(ad esempio: attività 1.1.2, PM2.5, olio combustibil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303120" y="1010520"/>
            <a:ext cx="8732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Nella maggior parte dei casi le emissioni misurate riguardano il P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i valori percentuali riportati nella tabella DIST_POLVERI sono già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riferite a questo inquinante e la stima di tutti gli altri si effettua applicando l’algoritmo di cui sopr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3600" y="2820960"/>
            <a:ext cx="8326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Nell’eventualità che l’emissione misurata riguardi invece il PM1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è necessario applicare il seguente algoritm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450720" y="4044960"/>
                <a:ext cx="8298000" cy="67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EPM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PM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)</m:t>
                        </m:r>
                      </m:e>
                      <m:sub>
                        <m:r>
                          <m:t xml:space="preserve">l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att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inq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comb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EPM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PM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id</m:t>
                    </m:r>
                    <m:r>
                      <m:t xml:space="preserve">=</m:t>
                    </m:r>
                    <m:r>
                      <m:t xml:space="preserve">9</m:t>
                    </m:r>
                    <m:sSub>
                      <m:e>
                        <m:r>
                          <m:t xml:space="preserve">)</m:t>
                        </m:r>
                      </m:e>
                      <m:sub>
                        <m:r>
                          <m:t xml:space="preserve">l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att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comb</m:t>
                        </m:r>
                      </m:sub>
                    </m:sSub>
                    <m:r>
                      <m:t xml:space="preserve">∗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erc</m:t>
                            </m:r>
                          </m:e>
                          <m: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is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tt</m:t>
                                </m:r>
                                <m:r>
                                  <m:t xml:space="preserve">,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inq</m:t>
                                </m:r>
                                <m:r>
                                  <m:t xml:space="preserve">,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comb</m:t>
                                </m:r>
                              </m:sub>
                            </m:sSub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erc</m:t>
                            </m:r>
                          </m:e>
                          <m: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is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tt</m:t>
                                </m:r>
                                <m:r>
                                  <m:t xml:space="preserve">,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comb</m:t>
                                </m:r>
                              </m:sub>
                            </m:sSub>
                          </m:sub>
                        </m:sSub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PM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id</m:t>
                        </m:r>
                        <m:r>
                          <m:t xml:space="preserve">=</m:t>
                        </m:r>
                        <m:r>
                          <m:t xml:space="preserve">9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6" name=""/>
          <p:cNvSpPr/>
          <p:nvPr/>
        </p:nvSpPr>
        <p:spPr>
          <a:xfrm>
            <a:off x="424080" y="5192640"/>
            <a:ext cx="8267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La ripartizione di queste emissioni per camino è del tutto identic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a quanto descritto per le emissioni puntuali stimate, sostituend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in ogni caso EPS con EPM_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343960" y="189000"/>
            <a:ext cx="48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a) EMISSIONI MISURATE (seg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788560" y="235080"/>
            <a:ext cx="365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b) EMISSIONI STIM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37960" y="978480"/>
            <a:ext cx="8806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Se non ci sono emissioni misurate di particolato (ID = 9, 10, 33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ed eventualmente in futuro altri), ed è presente soltanto il FE del PT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il sistema deve comunque essere in grado di stimare le emissioni p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linea di PM10, PM2.5 e via discorrend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L’algoritmo da utilizzare in questo caso è il seguen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324000" y="3300480"/>
                <a:ext cx="849600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EPS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PM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PM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)</m:t>
                        </m:r>
                      </m:e>
                      <m:sub>
                        <m:r>
                          <m:t xml:space="preserve">l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att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inq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comb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l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att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comb</m:t>
                        </m:r>
                      </m:sub>
                    </m:sSub>
                    <m:r>
                      <m:t xml:space="preserve">∗</m:t>
                    </m:r>
                    <m:r>
                      <m:rPr>
                        <m:lit/>
                        <m:nor/>
                      </m:rPr>
                      <m:t xml:space="preserve">FE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PTS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id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sSub>
                      <m:e>
                        <m:r>
                          <m:t xml:space="preserve">)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tt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comb</m:t>
                        </m:r>
                      </m:sub>
                    </m:sSub>
                    <m:r>
                      <m:t xml:space="preserve">∗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perc</m:t>
                        </m: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is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tt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nq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mb</m:t>
                            </m:r>
                          </m:sub>
                        </m:sSub>
                      </m:sub>
                    </m:sSub>
                    <m:r>
                      <m:t xml:space="preserve">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6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92" name=""/>
          <p:cNvSpPr/>
          <p:nvPr/>
        </p:nvSpPr>
        <p:spPr>
          <a:xfrm>
            <a:off x="424080" y="4222440"/>
            <a:ext cx="8267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La ripartizione di queste emissioni per camino è del tutto identic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a quanto descritto per le emissioni puntuali stimate, sostituend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in ogni caso EPS con EPS_G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rcRect l="0" t="7481" r="0" b="12502"/>
          <a:stretch/>
        </p:blipFill>
        <p:spPr>
          <a:xfrm>
            <a:off x="108000" y="1233360"/>
            <a:ext cx="8928000" cy="53578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2048040" y="260280"/>
            <a:ext cx="468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Query di decodifica della base da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16640" y="115920"/>
            <a:ext cx="88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Esempio di risultati: emissioni di NOx ripartite per linea e camin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9080" y="836640"/>
            <a:ext cx="912492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539640" y="163440"/>
            <a:ext cx="815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Times New Roman"/>
              </a:rPr>
              <a:t>ESTRAZIONE DATI PUNTUALI PER MODELLIS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66560" y="1012680"/>
            <a:ext cx="8353440" cy="530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Le emissioni misurate per macrosettore, settore, attività, linea e camino si trovano nella tabell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PUNTUALI_ RIASSUNTO_MSAL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In questa tabella sono presenti solo le emissioni PM, ossia quelle misurate ai camini e stimate dal run PUNTUALI MISURA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Quando si inseriscono i dati di emissioni ai camini tramite l’interfaccia Inemar, la tabella in questione viene compilata automaticamente per un certo numero di inquinant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È ora necessaria una procedura, che permetta di attribuire alle linee e ai camini anche quelle emissioni PS, che sono già stimate dal sistema con il run “Puntuali stimate” tramite l’algoritmo che moltiplica gli indicatori di attività presenti per linea e i fattori di emissione per l’attività (e combustibile) di cui la linea fa par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84360" y="114840"/>
            <a:ext cx="802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Il modulo deve produrre i risultati totali (PM e PS) nella tabella P_RIASSUNTO_ST_AT_COMB_L_C, contenente i seguenti campi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1384200"/>
            <a:ext cx="3814920" cy="32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000000"/>
                </a:solidFill>
                <a:latin typeface="Times New Roman"/>
              </a:rPr>
              <a:t>CAMPI CHIAVE: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Times New Roman"/>
              </a:rPr>
              <a:t>FK_ID_STAB (da P_STABILIMENTO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Times New Roman"/>
              </a:rPr>
              <a:t>FK_ISTAT_COMUNE (da  P_STABILIMENTO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Times New Roman"/>
              </a:rPr>
              <a:t>FK_TARGA (da TARGA_PROVINCIA sulla base del link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Times New Roman"/>
              </a:rPr>
              <a:t>FK_ID_ATT (da SNAP_ATTIVITA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Times New Roman"/>
              </a:rPr>
              <a:t>FK_ID_COMBUSTIBILE (da COMBUSTIBILI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Times New Roman"/>
              </a:rPr>
              <a:t>FK_ID_INQUINANTE (da INQUINANTI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Times New Roman"/>
              </a:rPr>
              <a:t>FK_ID_LINEA (da P_LINEA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Times New Roman"/>
              </a:rPr>
              <a:t>FK_ID_CAMINO (da P_CAMINO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Times New Roman"/>
              </a:rPr>
              <a:t>TIPO EMISSIONE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788000" y="1251000"/>
            <a:ext cx="3916440" cy="534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000000"/>
                </a:solidFill>
                <a:latin typeface="Times New Roman"/>
              </a:rPr>
              <a:t>ALTRI CAMPI: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Times New Roman"/>
              </a:rPr>
              <a:t>ANNO_CENSIMENTO (da P_STABILIMENTO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Times New Roman"/>
              </a:rPr>
              <a:t>DENOMINAZIONE (da P_STABILIMENTO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Times New Roman"/>
              </a:rPr>
              <a:t>H_SLM (da P_STABILIMENTO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Times New Roman"/>
              </a:rPr>
              <a:t>LATITUDINE (da P_STABILIMENTO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Times New Roman"/>
              </a:rPr>
              <a:t>LONGITUDINE (da P_STABILIMENTO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Times New Roman"/>
              </a:rPr>
              <a:t>PRG_CAMINO (da P_CAMINO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Times New Roman"/>
              </a:rPr>
              <a:t>SIGLA (da P_CAMINO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Times New Roman"/>
              </a:rPr>
              <a:t>ALTEZZA (da P_CAMINO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Times New Roman"/>
              </a:rPr>
              <a:t>DIAMETRO (da P_CAMINO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Times New Roman"/>
              </a:rPr>
              <a:t>TEMPERATURA (da P_CAMINO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Times New Roman"/>
              </a:rPr>
              <a:t>PORTATA_SECCHI (da P_CAMINO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Times New Roman"/>
              </a:rPr>
              <a:t>PORTATA_UMIDI (da P_CAMINO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Times New Roman"/>
              </a:rPr>
              <a:t>O2_RIF_FUMI (da P_CAMINO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Times New Roman"/>
              </a:rPr>
              <a:t>O2_EFF_FUMI (da P_CAMINO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Times New Roman"/>
              </a:rPr>
              <a:t>UMIDITA_FUMI (da P_CAMINO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Times New Roman"/>
              </a:rPr>
              <a:t>ORE FUNZIONAMENTO (da P_CAMINO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Times New Roman"/>
              </a:rPr>
              <a:t>NOME (da P_LINEA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Times New Roman"/>
              </a:rPr>
              <a:t>CODICE_LINEA (da P_LINEA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Times New Roman"/>
              </a:rPr>
              <a:t>VALORE_INDICATORE (da P_LINEA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Times New Roman"/>
              </a:rPr>
              <a:t>EMISSIONE (da P_EMISSIONE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55640" y="154440"/>
            <a:ext cx="748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STEP 1: CALCOLO DELLE EMISSIONI PER LIN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871200"/>
            <a:ext cx="856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Per ogni linea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e per ogni associazione di attività SNAP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att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, inquinante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inq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e combustibile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comb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, l’emissione che il sistema dovrà calcolare in ogni caso sarà data d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900000" y="2349360"/>
                <a:ext cx="6551640" cy="62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EPS</m:t>
                        </m:r>
                      </m:e>
                      <m:sub>
                        <m:r>
                          <m:t xml:space="preserve">l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att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inq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comb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l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att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comb</m:t>
                        </m:r>
                      </m:sub>
                    </m:sSub>
                    <m:r>
                      <m:t xml:space="preserve">∗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F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tt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inq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comb</m:t>
                        </m:r>
                      </m:sub>
                    </m:sSub>
                    <m:r>
                      <m:t xml:space="preserve">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6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55" name=""/>
          <p:cNvSpPr/>
          <p:nvPr/>
        </p:nvSpPr>
        <p:spPr>
          <a:xfrm>
            <a:off x="-63000" y="3577680"/>
            <a:ext cx="9352440" cy="24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Dov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è l’indicatore dell’attività SNAP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att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per la linea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e il combustibi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comb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(ad esempio: attività 1.1.2, linea 1 metano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FE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Times New Roman"/>
              </a:rPr>
              <a:t>att,inq,comb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è il fattore di emissione per l’attività a cui appartie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la linea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, l’inquinante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inq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e il combustibile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comb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50920" y="1016280"/>
            <a:ext cx="8569080" cy="53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In realtà si tratta di un conto già fatto nell’algoritmo PUNTUAL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STIMAT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Infatti PUNTUALI_INTERMEDI non ha dettaglio per linea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il sistema somma automaticamente tutti gli indicatori per attività 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combustibile, poi applica l’algoritmo per la stima delle emissioni P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Ora, se si utilizzasse questo dato di emissione e si cercasse di attribuirlo ai singoli camini sorgerebbero difficoltà qualora a un’attività corrispondessero più linee che utilizzano lo stesso combustibil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Calcolare l’emissione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EPS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Times New Roman"/>
              </a:rPr>
              <a:t>l,att,inq,comb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direttamente è concettualmente più semplice ed evita di dover applicare una disaggregazione per linea dell’emissione PS scritta in PUNTUALI_INTERMEDI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24000" y="154440"/>
            <a:ext cx="84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STEP 1: CALCOLO DELLE EMISSIONI PER LINEA (seg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50920" y="15444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STEP 2: ATTRIBUZIONE DELLE EMISSIONI AL CAMI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17880" y="985320"/>
            <a:ext cx="842688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È necessario ora attribuire questa emissione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EPS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Times New Roman"/>
              </a:rPr>
              <a:t>l,att,inq,comb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al camin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o ai camini nel caso che le emissioni di una linea fossero collega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a più camini, o quelle di più linee convogliate in un unico camin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(informazione contenuta da P_LINEA_CAMINO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960480" y="3187800"/>
            <a:ext cx="69519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Per fare questo si deve innanzitutto distinguere tre cas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a) UNA LINEA CON UN SOLO CAMI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b) PIÙ LINEE CON UN SOLO CAMI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c) UNA LINEA CON PIÙ CAMI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681920" y="1171440"/>
            <a:ext cx="577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a) UNA LINEA CON UN SOLO CAMI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00400" y="1746000"/>
            <a:ext cx="819072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Per una certa attività, è presente nello stabilimento una sola line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e un solo camin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L’emissione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EPS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Times New Roman"/>
              </a:rPr>
              <a:t>l,att,inq,comb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va scritta direttamente nella tabell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P_RIASSUNTO_ST_AT_COMB_L_C e associata al camin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656720" y="3979800"/>
            <a:ext cx="564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b) PIÙ LINEE CON UN SOLO CAMI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91400" y="4579200"/>
            <a:ext cx="825948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Per una o più attività, sono presenti nello stabilimento più line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che convogliano i fumi in un solo camin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Anche in questo caso l’emissione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EPS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Times New Roman"/>
              </a:rPr>
              <a:t>l,att,inq,comb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va scritt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direttamente nella tabella P_RIASSUNTO_ST_AT_COMB_L_C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e associata al camin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06560" y="154440"/>
            <a:ext cx="554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METODOLOGIE DI ATTRIBUZ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169720" y="189000"/>
            <a:ext cx="480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c) UNA LINEA CON PIÙ CAMI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77840" y="934560"/>
            <a:ext cx="8785080" cy="57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Per una certa attività, è presente nello stabilimento una linea con più camini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In questo caso occorre applicare la disaggregazione per camino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Si prendano tutti i camini associati ad una data linea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Questi si trovano nella tabella P_CAMINO, e l’associazione alla linea è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specificata nella tabella P_LINEA_CAMINO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Si prenda il valore del campo PORTATA_SECCHI in P_CAMINO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e lo si moltiplichi per il valore del campo ORE_FUNZIONAMENTO,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sempre nella stessa tabella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Si chiami questo valore VOLUME_FUMI_ANNUI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Si sommino i valori di VOLUME_FUMI_ANNUI per tutti i camini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collegati a una certa linea, chiamando la somma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SOMMA_VOLUME_FUMI_ANNUI_LINEA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Ad ogni camino si associ un numero ottenuto dividendo il proprio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VOLUME_FUMI_ANNUI per SOMMA_VOLUME_FUMI_LINEA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Si chiami questo numero COEFF_RIPARTIZION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1122840" y="189000"/>
            <a:ext cx="70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c) UNA LINEA CON PIÙ CAMINI - ALGORIT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96720" y="849960"/>
            <a:ext cx="7340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L’algoritmo può essere espresso sinteticamente in questo modo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503280" y="1413000"/>
                <a:ext cx="7740720" cy="49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EPS</m:t>
                        </m:r>
                      </m:e>
                      <m:sub>
                        <m:r>
                          <m:t xml:space="preserve">l</m:t>
                        </m:r>
                        <m:r>
                          <m:t xml:space="preserve">,</m:t>
                        </m:r>
                        <m:r>
                          <m:t xml:space="preserve">c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att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inq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comb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EPS</m:t>
                        </m:r>
                      </m:e>
                      <m:sub>
                        <m:r>
                          <m:t xml:space="preserve">l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att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inq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comb</m:t>
                        </m:r>
                      </m:sub>
                    </m:sSub>
                    <m:r>
                      <m:t xml:space="preserve">∗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OEFF</m:t>
                        </m: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IPARTIZIONE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2" name=""/>
          <p:cNvSpPr/>
          <p:nvPr/>
        </p:nvSpPr>
        <p:spPr>
          <a:xfrm>
            <a:off x="468360" y="2246760"/>
            <a:ext cx="8532720" cy="21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Dove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200" spc="-1" strike="noStrike">
                <a:solidFill>
                  <a:srgbClr val="000000"/>
                </a:solidFill>
                <a:latin typeface="Times New Roman"/>
              </a:rPr>
              <a:t>EPS</a:t>
            </a:r>
            <a:r>
              <a:rPr b="0" i="1" lang="it-IT" sz="2200" spc="-1" strike="noStrike" baseline="-25000">
                <a:solidFill>
                  <a:srgbClr val="000000"/>
                </a:solidFill>
                <a:latin typeface="Times New Roman"/>
              </a:rPr>
              <a:t>l,c,att,inq,comb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 è l’emissione puntuale stimata della linea </a:t>
            </a:r>
            <a:r>
              <a:rPr b="0" i="1" lang="it-IT" sz="2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 e del camino </a:t>
            </a:r>
            <a:r>
              <a:rPr b="0" i="1" lang="it-IT" sz="2200" spc="-1" strike="noStrike">
                <a:solidFill>
                  <a:srgbClr val="000000"/>
                </a:solidFill>
                <a:latin typeface="Times New Roman"/>
              </a:rPr>
              <a:t>c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per l’attività SNAP </a:t>
            </a:r>
            <a:r>
              <a:rPr b="0" i="1" lang="it-IT" sz="2200" spc="-1" strike="noStrike">
                <a:solidFill>
                  <a:srgbClr val="000000"/>
                </a:solidFill>
                <a:latin typeface="Times New Roman"/>
              </a:rPr>
              <a:t>att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, l’inquinante </a:t>
            </a:r>
            <a:r>
              <a:rPr b="0" i="1" lang="it-IT" sz="2200" spc="-1" strike="noStrike">
                <a:solidFill>
                  <a:srgbClr val="000000"/>
                </a:solidFill>
                <a:latin typeface="Times New Roman"/>
              </a:rPr>
              <a:t>inq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 e il combustibile </a:t>
            </a:r>
            <a:r>
              <a:rPr b="0" i="1" lang="it-IT" sz="2200" spc="-1" strike="noStrike">
                <a:solidFill>
                  <a:srgbClr val="000000"/>
                </a:solidFill>
                <a:latin typeface="Times New Roman"/>
              </a:rPr>
              <a:t>com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200" spc="-1" strike="noStrike">
                <a:solidFill>
                  <a:srgbClr val="000000"/>
                </a:solidFill>
                <a:latin typeface="Times New Roman"/>
              </a:rPr>
              <a:t>EPS</a:t>
            </a:r>
            <a:r>
              <a:rPr b="0" i="1" lang="it-IT" sz="2200" spc="-1" strike="noStrike" baseline="-25000">
                <a:solidFill>
                  <a:srgbClr val="000000"/>
                </a:solidFill>
                <a:latin typeface="Times New Roman"/>
              </a:rPr>
              <a:t>l,att,inq,comb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 è l’emissione puntuale stimata della linea </a:t>
            </a:r>
            <a:r>
              <a:rPr b="0" i="1" lang="it-IT" sz="2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 per l’attività SNAP </a:t>
            </a:r>
            <a:r>
              <a:rPr b="0" i="1" lang="it-IT" sz="2200" spc="-1" strike="noStrike">
                <a:solidFill>
                  <a:srgbClr val="000000"/>
                </a:solidFill>
                <a:latin typeface="Times New Roman"/>
              </a:rPr>
              <a:t>att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, l’inquinante </a:t>
            </a:r>
            <a:r>
              <a:rPr b="0" i="1" lang="it-IT" sz="2200" spc="-1" strike="noStrike">
                <a:solidFill>
                  <a:srgbClr val="000000"/>
                </a:solidFill>
                <a:latin typeface="Times New Roman"/>
              </a:rPr>
              <a:t>inq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 e il combustibile </a:t>
            </a:r>
            <a:r>
              <a:rPr b="0" i="1" lang="it-IT" sz="2200" spc="-1" strike="noStrike">
                <a:solidFill>
                  <a:srgbClr val="000000"/>
                </a:solidFill>
                <a:latin typeface="Times New Roman"/>
              </a:rPr>
              <a:t>com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538200" y="4676760"/>
                <a:ext cx="7129440" cy="98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OEFF</m:t>
                        </m: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IPARTIZIONE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VOLUME</m:t>
                            </m:r>
                          </m:e>
                          <m: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FUMI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ANNUI</m:t>
                                    </m:r>
                                  </m:e>
                                  <m:sub>
                                    <m:r>
                                      <m:t xml:space="preserve">c</m:t>
                                    </m:r>
                                  </m:sub>
                                </m:sSub>
                              </m:sub>
                            </m:sSub>
                          </m:sub>
                        </m:sSub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c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VOLUME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FUMI</m:t>
                                    </m:r>
                                  </m:e>
                                  <m:sub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ANNUI</m:t>
                                        </m:r>
                                      </m:e>
                                      <m:sub>
                                        <m:r>
                                          <m:t xml:space="preserve">c</m:t>
                                        </m:r>
                                      </m:sub>
                                    </m:sSub>
                                  </m:sub>
                                </m:sSub>
                              </m:sub>
                            </m:sSub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539640" y="5948280"/>
                <a:ext cx="828036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VOLUME</m:t>
                        </m: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FUMI</m:t>
                            </m:r>
                          </m:e>
                          <m: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NNUI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sub>
                        </m:sSub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PORTATA</m:t>
                        </m: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ECCH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sub>
                    </m:sSub>
                    <m:r>
                      <m:t xml:space="preserve">∗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ORE</m:t>
                        </m: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FUNZIONAMENTO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MORETTI</cp:lastModifiedBy>
  <dcterms:modified xsi:type="dcterms:W3CDTF">2007-04-17T13:25:50Z</dcterms:modified>
  <cp:revision>157</cp:revision>
  <dc:subject/>
  <dc:title>PowerPoint Presentation</dc:title>
</cp:coreProperties>
</file>