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7A7F-FA91-4004-96A9-3AD51876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A56C-39AF-4111-8CA9-6574F59C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33C4-C319-4DD0-A2AB-A0AA1342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7FDF-41E1-4932-8308-3125E7E1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F167-BFAE-412A-AB90-69635BC5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0F3-00E0-486F-B90B-BB13C300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8AF0-C1D6-40F3-8E95-06E3FBB2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EC88-1CCD-49DD-954C-A87CE114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FE5B-8715-4F16-A057-A31B92EF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D545-BD94-4CCA-BBB6-58B2BB54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167-0E5F-4342-B79C-371A8D16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99E-156C-40EE-91AF-003CF5B3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6835-E08D-4B94-8304-281BC298470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26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166480"/>
            <a:ext cx="91440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E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ventario emissio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Versione 5_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Modulo export dati puntual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modellist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5256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16000" y="235080"/>
            <a:ext cx="71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MISSIONI DI POLVERI DA GRANULOME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182600"/>
            <a:ext cx="806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ulo polveri fini prende i dati dal modulo puntuali per attività SNAP senza dettaglio di linea, e li scrive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B_OUTPUT_DETT_P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quindi necessario che gli stessi algoritmi siano utilizzati per associare alle linee e ai camini le emissioni da granulometria, in modo simile a quanto sopra esposto per le emissioni puntuali sti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lgoritmo si differenzia per due possibili cas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rimo si basa sulle emissioni misu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econdo sulle emissioni stimate da fattori di emiss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89040" y="18900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EMISSIONI MIS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905760"/>
            <a:ext cx="843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ogni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per ogni associazione di 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a partire dall’emissione misurata di PTS, l’emissione che il sistema dovrà calcolare in ogni caso sarà data 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95280" y="2992320"/>
                <a:ext cx="82090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M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P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TS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r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q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mb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96720" y="3641400"/>
            <a:ext cx="8352000" cy="17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erc_dis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la percentuale granulometrica per l’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ad esempio: attività 1.1.2, PM2.5, olio combustibi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3120" y="1010520"/>
            <a:ext cx="87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maggior parte dei casi le emissioni misurate riguardano il P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valori percentuali riportati nella tabella DIST_POLVERI sono gi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ferite a questo inquinante e la stima di tutti gli altri si effettua applicando l’algoritmo di cui sop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3600" y="282096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’eventualità che l’emissione misurata riguardi invece il PM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necessario applicare il seguente algorit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0720" y="4044960"/>
                <a:ext cx="8298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M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P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c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s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tt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nq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mb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c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s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tt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mb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424080" y="5192640"/>
            <a:ext cx="82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ipartizione di queste emissioni per camino è del tutto iden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quanto descritto per le emissioni puntuali stimate, sostitu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ogni caso EPS con EPM_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43960" y="189000"/>
            <a:ext cx="48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EMISSIONI MISURATE (se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88560" y="23508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EMISSIONI 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" y="978480"/>
            <a:ext cx="880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non ci sono emissioni misurate di particolato (ID = 9, 10, 3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d eventualmente in futuro altri), ed è presente soltanto il FE del P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istema deve comunque essere in grado di stimare le emissioni 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nea di PM10, PM2.5 e via discorren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lgoritmo da utilizzare in questo caso è il segu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24000" y="3300480"/>
                <a:ext cx="84960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F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TS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r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q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mb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424080" y="4222440"/>
            <a:ext cx="82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ipartizione di queste emissioni per camino è del tutto iden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quanto descritto per le emissioni puntuali stimate, sostitu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ogni caso EPS con EPS_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7481" r="0" b="12502"/>
          <a:stretch/>
        </p:blipFill>
        <p:spPr>
          <a:xfrm>
            <a:off x="108000" y="1233360"/>
            <a:ext cx="8928000" cy="5357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048040" y="260280"/>
            <a:ext cx="46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uery di decodifica della base d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6640" y="11592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o di risultati: emissioni di NOx ripartite per linea e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80" y="836640"/>
            <a:ext cx="9124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6344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TRAZIONE DATI PUNTUALI PER MODELL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6560" y="1012680"/>
            <a:ext cx="835344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emissioni misurate per macrosettore, settore, attività, linea e camino si trovano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UNTUALI_ RIASSUNTO_MS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questa tabella sono presenti solo le emissioni PM, ossia quelle misurate ai camini e stimate dal run PUNTUALI MISU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ando si inseriscono i dati di emissioni ai camini tramite l’interfaccia Inemar, la tabella in questione viene compilata automaticamente per un certo numero di inquina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ora necessaria una procedura, che permetta di attribuire alle linee e ai camini anche quelle emissioni PS, che sono già stimate dal sistema con il run “Puntuali stimate” tramite l’algoritmo che moltiplica gli indicatori di attività presenti per linea e i fattori di emissione per l’attività (e combustibile) di cui la linea fa pa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114840"/>
            <a:ext cx="80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l modulo deve produrre i risultati totali (PM e PS) nella tabella P_RIASSUNTO_ST_AT_COMB_L_C, contenente i seguenti camp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384200"/>
            <a:ext cx="38149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CAMPI CHIAV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STAB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STAT_COMUNE (da 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TARGA (da TARGA_PROVINCIA sulla base del link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ATT (da SNAP_ATTIVIT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COMBUSTIBILE (da COMBUSTIBIL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INQUINANTE (da INQUINANT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LINEA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CAMIN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TIPO EMISSION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1251000"/>
            <a:ext cx="391644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ALTRI CAMPI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ANNO_CENSIMENTO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DENOMINAZIO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H_SLM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LATITUDI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LONGITUDI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RG_CAMIN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SIGL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ALTEZZ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DIAMETR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TEMPERATUR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ORTATA_SECCH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ORTATA_UMID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2_RIF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2_EFF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UMIDITA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RE FUNZIONAMENT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NOME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CODICE_LINEA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VALORE_INDICATORE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EMISSIONE (da P_EMISSION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55640" y="15444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1: CALCOLO DELLE EMISSIONI PER 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8712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ogni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per ogni associazione di 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emissione che il sistema dovrà calcolare in ogni caso sarà data 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900000" y="2349360"/>
                <a:ext cx="65516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-63000" y="3577680"/>
            <a:ext cx="935244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l’indicatore dell’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la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ad esempio: attività 1.1.2, linea 1 meta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il fattore di emissione per l’attività a cui appartie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1016280"/>
            <a:ext cx="8569080" cy="53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realtà si tratta di un conto già fatto nell’algoritmo PUNTUA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fatti PUNTUALI_INTERMEDI non ha dettaglio per line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istema somma automaticamente tutti gli indicatori per attività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bustibile, poi applica l’algoritmo per la stima delle emissioni 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ra, se si utilizzasse questo dato di emissione e si cercasse di attribuirlo ai singoli camini sorgerebbero difficoltà qualora a un’attività corrispondessero più linee che utilizzano lo stesso combustib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lcolare 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irettamente è concettualmente più semplice ed evita di dover applicare una disaggregazione per linea dell’emissione PS scritta in PUNTUALI_INTERMEDI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544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1: CALCOLO DELLE EMISSIONI PER LINEA (se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154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2: ATTRIBUZIONE DELLE EMISSIONI AL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7880" y="985320"/>
            <a:ext cx="84268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necessario ora attribuire questa 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 ai camini nel caso che le emissioni di una linea fossero colleg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più camini, o quelle di più linee convogliate in un unico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informazione contenuta da P_LINEA_CAMI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60480" y="3187800"/>
            <a:ext cx="695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fare questo si deve innanzitutto distinguere tre ca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UNA LINEA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PIÙ LINEE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81920" y="117144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UNA LINEA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0400" y="1746000"/>
            <a:ext cx="8190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a certa attività, è presente nello stabilimento una sola lin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un solo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a scritta direttamente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_RIASSUNTO_ST_AT_COMB_L_C e associata al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56720" y="3979800"/>
            <a:ext cx="56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PIÙ LINEE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1400" y="4579200"/>
            <a:ext cx="82594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a o più attività, sono presenti nello stabilimento più lin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e convogliano i fumi in un solo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che in questo caso 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a scrit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rettamente nella tabella P_RIASSUNTO_ST_AT_COMB_L_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associata al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6560" y="1544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ETODOLOGIE DI ATTRIB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69720" y="18900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7840" y="934560"/>
            <a:ext cx="878508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er una certa attività, è presente nello stabilimento una linea con più camin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n questo caso occorre applicare la disaggregazione per camin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prendano tutti i camini associati ad una data 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Questi si trovano nella tabella P_CAMINO, e l’associazione alla linea è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pecificata nella tabella P_LINEA_CAMI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prenda il valore del campo PORTATA_SECCHI in P_CAM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e lo si moltiplichi per il valore del campo ORE_FUNZIONAMENT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empre nella stessa tabell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chiami questo valore VOLUME_FUMI_ANNU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sommino i valori di VOLUME_FUMI_ANNUI per tutti i cami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llegati a una certa linea, chiamando la som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OMMA_VOLUME_FUMI_ANNUI_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d ogni camino si associ un numero ottenuto dividendo il propri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VOLUME_FUMI_ANNUI per SOMMA_VOLUME_FUMI_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chiami questo numero COEFF_RIPARTIZI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22840" y="189000"/>
            <a:ext cx="70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 - ALGORIT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720" y="849960"/>
            <a:ext cx="734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L’algoritmo può essere espresso sinteticamente in questo mod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03280" y="1413000"/>
                <a:ext cx="77407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PARTIZION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68360" y="2246760"/>
            <a:ext cx="8532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Dov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l,c,att,inq,comb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è l’emissione puntuale stimata della linea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del camino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er l’attività SNAP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om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è l’emissione puntuale stimata della linea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per l’attività SNAP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om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38200" y="4676760"/>
                <a:ext cx="71294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PARTIZION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UMI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NNU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OLUME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UMI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NNUI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9640" y="5948280"/>
                <a:ext cx="828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UMI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NNU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ORTATA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CH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R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UNZIONAMENTO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MORETTI</cp:lastModifiedBy>
  <dcterms:modified xsi:type="dcterms:W3CDTF">2007-04-17T13:25:50Z</dcterms:modified>
  <cp:revision>157</cp:revision>
  <dc:subject/>
  <dc:title>PowerPoint Presentation</dc:title>
</cp:coreProperties>
</file>