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1209-B8FF-4C5D-AEB8-D76378C0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F70F-C333-46C5-92A4-0D08329C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EC28-8149-43CB-AA6B-4F34CEE8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51C-45F0-4B4D-B4DF-171ABB73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AC46-48AE-4E19-B6BE-C2E179FC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A547-B811-4BFF-9467-B63DA98A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575C-CCAB-4AFC-9108-0C2F2A2E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A894-98FE-4F19-8FD6-A3A265C0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DAA9-4AB7-4216-A9D5-CDC7242D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23F6-D1C7-4E4F-9E58-3BD8C46B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6540-F125-48DB-ACC9-EAFF60CB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BF0-3613-47C1-ACA5-37334C46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C3DC-94E7-4395-9324-A7302731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5CBB-D54F-4863-9A0A-F4E4E0ED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CCFE-D0C3-4C46-9BD6-DEB88E50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05A8-3FCD-41E7-A9E6-0FF2D436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9D64-37AC-46D9-8424-621CE4A5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861-5BEB-4B53-B208-C15AF531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482-A29F-45CD-B5EF-53072211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E0A-CA01-402E-BED8-8DC729F6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479-B8FA-455A-88DC-E2F7F844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D1B-80CE-47B0-9105-2B665DCF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5DC-E778-43EF-ABBD-BBA1F224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3D34-D1AA-4F0B-942A-C987506B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41F1-4EEB-4D7F-81AD-CA0C42EB740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0245-BDC6-4E29-9C0F-A40D4DA463E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c.europa.eu/environment/air/pdf/chapter2_ship_emissions.pdf" TargetMode="External"/><Relationship Id="rId2" Type="http://schemas.openxmlformats.org/officeDocument/2006/relationships/hyperlink" Target="http://ec.europa.eu/environment/air/pdf/chapter2_ship_emissions.pdf" TargetMode="External"/><Relationship Id="rId3" Type="http://schemas.openxmlformats.org/officeDocument/2006/relationships/hyperlink" Target="http://ec.europa.eu/environment/air/pdf/chapter2_ship_emissions.pdf" TargetMode="External"/><Relationship Id="rId4" Type="http://schemas.openxmlformats.org/officeDocument/2006/relationships/hyperlink" Target="http://ec.europa.eu/environment/air/pdf/chapter2_ship_emissions.pdf" TargetMode="External"/><Relationship Id="rId5" Type="http://schemas.openxmlformats.org/officeDocument/2006/relationships/hyperlink" Target="http://ec.europa.eu/environment/air/pdf/chapter2_ship_emissions.pdf" TargetMode="External"/><Relationship Id="rId6" Type="http://schemas.openxmlformats.org/officeDocument/2006/relationships/hyperlink" Target="http://ec.europa.eu/environment/air/pdf/chapter2_ship_emissions.pdf" TargetMode="External"/><Relationship Id="rId7" Type="http://schemas.openxmlformats.org/officeDocument/2006/relationships/hyperlink" Target="http://ec.europa.eu/environment/air/pdf/chapter2_ship_emissions.pdf" TargetMode="External"/><Relationship Id="rId8" Type="http://schemas.openxmlformats.org/officeDocument/2006/relationships/hyperlink" Target="http://ec.europa.eu/environment/air/pdf/chapter2_ship_emissions.pdf" TargetMode="External"/><Relationship Id="rId9" Type="http://schemas.openxmlformats.org/officeDocument/2006/relationships/hyperlink" Target="http://ec.europa.eu/environment/air/pdf/chapter2_ship_emissions.pdf" TargetMode="External"/><Relationship Id="rId10" Type="http://schemas.openxmlformats.org/officeDocument/2006/relationships/hyperlink" Target="http://ec.europa.eu/environment/air/pdf/chapter2_ship_emissions.pdf" TargetMode="External"/><Relationship Id="rId11" Type="http://schemas.openxmlformats.org/officeDocument/2006/relationships/hyperlink" Target="http://ec.europa.eu/environment/air/pdf/chapter2_ship_emissions.pdf" TargetMode="External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2438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4708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MODULO POR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Palmanova, 15 aprile 2008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4800" t="6266" r="4014" b="6009"/>
          <a:stretch/>
        </p:blipFill>
        <p:spPr>
          <a:xfrm>
            <a:off x="1547640" y="549360"/>
            <a:ext cx="6193080" cy="456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-21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     b        c         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9301" t="16454" r="10066" b="41616"/>
          <a:stretch/>
        </p:blipFill>
        <p:spPr>
          <a:xfrm>
            <a:off x="-1440" y="1771560"/>
            <a:ext cx="9145440" cy="3770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195640" y="2276640"/>
            <a:ext cx="50472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620640"/>
            <a:ext cx="647640" cy="172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620640"/>
            <a:ext cx="14292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620640"/>
            <a:ext cx="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620640"/>
            <a:ext cx="36036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064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5238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9565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 il carburant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689040"/>
            <a:ext cx="856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entre la struttura prevede che i F.E siano disponibili per ogni associazione di carburante, motore e fase, i FE utilizzati sono indipendenti dal tipo di motore e dal tipo di combustibile utilizzato e sono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unzione esclusivamente del tipo di imbarcazione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e d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ase operativa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. Il sistema permette però la possibilità di inserire dati più accurati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so sia mancante il tipo di carburante (j), il tipo di imbarcazione (k) o il tipo di motore (l) si utilizza l’id_comb, l’id_tipo_imbarcazione e l’id_tipo_motore corrispondente a  99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9848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1280" y="1682640"/>
            <a:ext cx="103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.E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82760" y="-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7041" t="17901" r="25984" b="11966"/>
          <a:stretch/>
        </p:blipFill>
        <p:spPr>
          <a:xfrm>
            <a:off x="1380960" y="152280"/>
            <a:ext cx="7305840" cy="6551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1295280" y="0"/>
            <a:ext cx="1676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152280"/>
            <a:ext cx="160020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0400" y="6019920"/>
            <a:ext cx="28195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57200"/>
            <a:ext cx="1676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21932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4960" y="4561560"/>
            <a:ext cx="1249920" cy="649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800600" y="4648320"/>
            <a:ext cx="64440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38280" y="2514600"/>
            <a:ext cx="64800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538280"/>
            <a:ext cx="2133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</a:t>
            </a: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consumo max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14840" y="4130640"/>
            <a:ext cx="109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.E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12240" y="5968800"/>
            <a:ext cx="216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missione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 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800" y="5310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Stazza lor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3978000"/>
            <a:ext cx="318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  consumo effet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3640" y="1539000"/>
            <a:ext cx="22838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P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m</a:t>
            </a:r>
            <a:br>
              <a:rPr sz="28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frazione poten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438280"/>
            <a:ext cx="60948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81840" y="329040"/>
            <a:ext cx="275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tipo f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combustib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3200400"/>
            <a:ext cx="0" cy="781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5562720"/>
            <a:ext cx="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68160" y="49687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10000" y="512100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5486400"/>
            <a:ext cx="1684440" cy="30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32360" y="5410080"/>
            <a:ext cx="858960" cy="106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990720" cy="53352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5238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038480"/>
            <a:ext cx="106704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19112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51814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502920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2834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laborati tenendo conto dei motori e del carburante principalmente associati ad un certo tipo di imbarcazion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2057400"/>
            <a:ext cx="3581280" cy="19051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209680"/>
            <a:ext cx="3353040" cy="1447920"/>
          </a:xfrm>
          <a:prstGeom prst="wedgeRectCallout">
            <a:avLst>
              <a:gd name="adj1" fmla="val -43518"/>
              <a:gd name="adj2" fmla="val 8267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59400"/>
            <a:ext cx="864216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Dall’esecuzione del sopracitato algoritmo si generano 2 tabel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DETTAGL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PO_RIS_ DETTAGLIO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uddivise per inquinante i, distinte per carburante j, tipo di imbarcazione k, tipo di motore l e fase operativa m. Nella tabella si riporta, al posto della nazionalità, l’attività SNAP corrispondente ed anche l’ID_IM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52160"/>
            <a:ext cx="39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500480"/>
            <a:ext cx="84978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totali per inquinante i distinte solo per carburante j e tipo di imbarcazione k; viene indicata anche l’attività SNAP corrisponde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AB_OUTPUT</a:t>
            </a:r>
            <a:r>
              <a:rPr b="0" i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i fa la somma di tutte le emissioni, mettendo come tipo PO e sommando per tipo di attività (399 e 401), combustibile e inquina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452160"/>
            <a:ext cx="36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3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Raccolta da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413000"/>
          <a:ext cx="7201080" cy="4133880"/>
        </p:xfrm>
        <a:graphic>
          <a:graphicData uri="http://schemas.openxmlformats.org/drawingml/2006/table">
            <a:tbl>
              <a:tblPr/>
              <a:tblGrid>
                <a:gridCol w="33847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ipi di imbarcazione e stazza lord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Consumo giornaliero di carbura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Metodologia dettagliata MEET – Trozzi, Vaccar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Giorni di permanenza delle imbarcazioni  in ogni fas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 Fattori di emissione per inquinante,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n funzione del tipo di nave e della fase in cui si trov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European Commission – Quantification of emissions from ships associated with ship movements between ports in the european community – luglio 200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042920" y="5820840"/>
            <a:ext cx="7201080" cy="703800"/>
          </a:xfrm>
          <a:prstGeom prst="rect">
            <a:avLst/>
          </a:prstGeom>
          <a:solidFill>
            <a:srgbClr val="ff66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2"/>
              </a:rPr>
              <a:t>ec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4"/>
              </a:rPr>
              <a:t>europa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6"/>
              </a:rPr>
              <a:t>eu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8"/>
              </a:rPr>
              <a:t>environment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9"/>
              </a:rPr>
              <a:t>/air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0"/>
              </a:rPr>
              <a:t>pdf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1"/>
              </a:rPr>
              <a:t>/chapter2_ship_emissions.pdf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5516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4032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Incertezze/precisazion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484640"/>
            <a:ext cx="842472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SO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: Emilia Romagna ha segnalato che sembrano alti (elevato tenore zolfo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CO: potremmo utilizzare lo stesso approccio adottato dalla Regione Veneto, che ha usato un unico fattore di emissione medio (tratto dal Guidebook Corinair) indipendente dal tipo di nav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mpo TEMPO_NAVIGAZIONE  viene inserito il valore medio della somma dei tempi impiegati dalle imbarcazioni con stesso ID_IMC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2440"/>
            <a:ext cx="8964720" cy="61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La metodologia di stima è quella contenuta nell'Atmospheric Emission Inventory Guidebook (EEA, 2007), applicata ed implementata nel 2006 dal Dipartimento Provinciale di Venezia di A.R.P.A.V. (</a:t>
            </a:r>
            <a:r>
              <a:rPr b="0" i="1" lang="it-IT" sz="2000" spc="-1" strike="noStrike">
                <a:solidFill>
                  <a:srgbClr val="333333"/>
                </a:solidFill>
                <a:latin typeface="Times New Roman"/>
              </a:rPr>
              <a:t>“Le emissioni da attività portuale” - febbraio 2007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 - 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</a:rPr>
              <a:t>http://www.arpa.veneto.it/dapve/docs/Relazione_tecnica_emissioni_portuali.pdf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). Tale implementazione, partendo dall'approccio MEET (Methodology for Estimate air pollutant Emissions from Transport) proposto da Trozzi e Vaccaro (1998, 2006), prevede di utilizzare dei fattori di emissione indipendenti dal tipo di motore installato sulle imbarcazion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 base alla classificazione Corinair le emissioni dai porti sono suddivise nelle seguenti attività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2  Traffico marittimo 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4  Traffico marittimo inter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-570240"/>
            <a:ext cx="91440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333333"/>
                </a:solidFill>
                <a:latin typeface="Symbol"/>
                <a:ea typeface="Symbol"/>
              </a:rPr>
              <a:t>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n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045520"/>
            <a:ext cx="8496360" cy="46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= emissione totale dell’inquinante 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inquin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= carbur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fase operativ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di imbarcazion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n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emissione totale dell’inquinante i dall’uso del carburante j, sulle n imbarcazioni di tipo k, con motore l,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fas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-18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Fasi operativ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4926" t="18820" r="19438" b="10848"/>
          <a:stretch/>
        </p:blipFill>
        <p:spPr>
          <a:xfrm>
            <a:off x="179280" y="620640"/>
            <a:ext cx="7058160" cy="605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3042" t="60765" r="60690" b="8700"/>
          <a:stretch/>
        </p:blipFill>
        <p:spPr>
          <a:xfrm>
            <a:off x="5724360" y="3879720"/>
            <a:ext cx="3203640" cy="2978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11400">
            <a:off x="7465680" y="3124080"/>
            <a:ext cx="533520" cy="758880"/>
          </a:xfrm>
          <a:prstGeom prst="downArrowCallout">
            <a:avLst>
              <a:gd name="adj1" fmla="val 25002"/>
              <a:gd name="adj2" fmla="val 33222"/>
              <a:gd name="adj3" fmla="val 2370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30459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188" t="32673" r="49473" b="8700"/>
          <a:stretch/>
        </p:blipFill>
        <p:spPr>
          <a:xfrm>
            <a:off x="152280" y="380880"/>
            <a:ext cx="4210200" cy="501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11173" t="14136" r="55065" b="11043"/>
          <a:stretch/>
        </p:blipFill>
        <p:spPr>
          <a:xfrm>
            <a:off x="5148360" y="189000"/>
            <a:ext cx="3386160" cy="602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rcRect l="13051" t="35101" r="28813" b="32056"/>
          <a:stretch/>
        </p:blipFill>
        <p:spPr>
          <a:xfrm>
            <a:off x="3059280" y="4110120"/>
            <a:ext cx="5905440" cy="2666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3027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524200">
            <a:off x="7821360" y="2937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906600">
            <a:off x="3733560" y="456840"/>
            <a:ext cx="457200" cy="533520"/>
          </a:xfrm>
          <a:prstGeom prst="downArrowCallout">
            <a:avLst>
              <a:gd name="adj1" fmla="val 25002"/>
              <a:gd name="adj2" fmla="val 33222"/>
              <a:gd name="adj3" fmla="val 19449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524200">
            <a:off x="2874960" y="3182760"/>
            <a:ext cx="485640" cy="601920"/>
          </a:xfrm>
          <a:prstGeom prst="downArrowCallout">
            <a:avLst>
              <a:gd name="adj1" fmla="val 25002"/>
              <a:gd name="adj2" fmla="val 33222"/>
              <a:gd name="adj3" fmla="val 2065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496200">
            <a:off x="7696080" y="41133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0762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2268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0366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-356400"/>
            <a:ext cx="914400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 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t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10</a:t>
            </a:r>
            <a:r>
              <a:rPr b="0" lang="it-IT" sz="4400" spc="-1" strike="noStrike" baseline="30000">
                <a:solidFill>
                  <a:srgbClr val="333333"/>
                </a:solidFill>
                <a:latin typeface="Times New Roman"/>
              </a:rPr>
              <a:t>-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77560"/>
            <a:ext cx="914400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consumo giornaliero di carburante j, nell’imbarcazione k 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giorni di navigazione dell’imbarcazione k con motore l e usando carburante j 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TEMPI_NAVIGAZIONE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ijlm  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= F.E. medio dell’inquinante i, per il carburante j e motore l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ATT_EMISSIONE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imbarcazioni k, con motore l e carburante j 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NUM_MOVIMENT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855720"/>
            <a:ext cx="865980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S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* p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onsumo giornaliero di combustibile j dell’imbarcazione k  al 100% della potenza (come funzione della stazza lorda)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[t/giorno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 frazione del consumo di combustibile nella fase m per l’imbarcazione k 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RAZ_POT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525960"/>
            <a:ext cx="1152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it-IT" sz="4400" spc="-1" strike="noStrike" baseline="-25000">
                <a:solidFill>
                  <a:srgbClr val="ff0000"/>
                </a:solidFill>
                <a:latin typeface="Times New Roman"/>
              </a:rPr>
              <a:t>m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301" t="44384" r="25075" b="31927"/>
          <a:stretch/>
        </p:blipFill>
        <p:spPr>
          <a:xfrm>
            <a:off x="177840" y="2062080"/>
            <a:ext cx="8813880" cy="2519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H="1">
            <a:off x="2627640" y="1357920"/>
            <a:ext cx="1323360" cy="1121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0400" y="1387440"/>
            <a:ext cx="1372320" cy="1060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146960"/>
            <a:ext cx="865980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C </a:t>
            </a:r>
            <a:r>
              <a:rPr b="0" lang="it-IT" sz="34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3 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b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c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d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,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coefficienti tabellati nella metodologia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CONSUMI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GT = stazza lorda dell’imbarcazione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[t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IMC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34:14Z</dcterms:created>
  <dc:creator>Regione Lombardia</dc:creator>
  <dc:description/>
  <dc:language>en-US</dc:language>
  <cp:lastModifiedBy>amonguzzi</cp:lastModifiedBy>
  <cp:lastPrinted>2003-11-20T15:20:17Z</cp:lastPrinted>
  <dcterms:modified xsi:type="dcterms:W3CDTF">2008-05-06T12:58:00Z</dcterms:modified>
  <cp:revision>218</cp:revision>
  <dc:subject/>
  <dc:title>Nessun titolo diapositiva</dc:title>
</cp:coreProperties>
</file>