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D9F-90AF-4397-8436-0825709E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D21-7877-45B4-BCA5-4323284B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188-5064-45FC-95EE-1BAFE42F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3309-2CDF-4335-8C02-A899A336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761-F7D2-439F-BB4A-C624993A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5E9-644B-493D-B01E-22F1214A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9B6-FA85-4004-AAE2-C89D1543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D67-8E5F-4D91-A3F5-0FD91F8D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E43-5933-48BB-88B5-011DE0DE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461-7403-4DEE-B2CE-34B084F3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A71-9B94-495A-96B2-5484BE2F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A2F-C791-4056-8D7E-DECCC6F7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CF7A-5506-4DC8-BEF6-AAD040353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0080" cy="65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514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l modulo serbat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495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0" r="32814" b="28124"/>
          <a:stretch/>
        </p:blipFill>
        <p:spPr>
          <a:xfrm>
            <a:off x="380880" y="1219320"/>
            <a:ext cx="6553440" cy="525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0" r="21876" b="55210"/>
          <a:stretch/>
        </p:blipFill>
        <p:spPr>
          <a:xfrm>
            <a:off x="1447920" y="990720"/>
            <a:ext cx="7619760" cy="32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0" t="0" r="24220" b="40626"/>
          <a:stretch/>
        </p:blipFill>
        <p:spPr>
          <a:xfrm>
            <a:off x="1600200" y="2286000"/>
            <a:ext cx="7391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752480"/>
            <a:ext cx="83822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I (American Petroleum Institute) adottata dall’E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issioni di COV da serbato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tic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o, cupo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fiss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izzont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rato, superfici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1430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20040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87692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51" name="serb_petr" descr=""/>
          <p:cNvPicPr/>
          <p:nvPr/>
        </p:nvPicPr>
        <p:blipFill>
          <a:blip r:embed="rId3"/>
          <a:stretch/>
        </p:blipFill>
        <p:spPr>
          <a:xfrm>
            <a:off x="7467480" y="568800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serbatoi_interrati_2" descr=""/>
          <p:cNvPicPr/>
          <p:nvPr/>
        </p:nvPicPr>
        <p:blipFill>
          <a:blip r:embed="rId4"/>
          <a:stretch/>
        </p:blipFill>
        <p:spPr>
          <a:xfrm>
            <a:off x="6019920" y="4773600"/>
            <a:ext cx="14475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37160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SERBATO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ge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N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CO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CCESS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ACCESSORI_U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VELOCITA_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STOCC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ma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INQUINAN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gamento materia/C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EMISSIONE_MAT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à movim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RIS_INTERMEDI_SERBATOI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ultati per serbatoio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ilimento, attività, tip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e (ES, EM, 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438280"/>
            <a:ext cx="281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_TEMP_RAD_U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143000"/>
            <a:ext cx="815328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attività SNAP sotto cui vanno inseriti i serbatoi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1.4 Immagazzinamento e trasporto di prodotti nelle raffin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enzina e altri prodotti (cheros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5.22 Immagazzinamento e trasporto di prodotti chimici organi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oluene, ace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4.2 Altro trasporto interno e stoccagg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gregg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a attività sui serbatoi (ma che non dà luogo a emissioni di COV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4.4.15 Immagazzinamento e trasporto di prodott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mici inorga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lo serbatoi è direttamente collegato al modulo pun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21093" b="46877"/>
          <a:stretch/>
        </p:blipFill>
        <p:spPr>
          <a:xfrm>
            <a:off x="762120" y="213372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1676520"/>
            <a:ext cx="304920" cy="2438280"/>
          </a:xfrm>
          <a:prstGeom prst="downArrow">
            <a:avLst>
              <a:gd name="adj1" fmla="val 50000"/>
              <a:gd name="adj2" fmla="val 19991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114800"/>
            <a:ext cx="2286000" cy="60948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erbatoi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6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ipologie emi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52480"/>
            <a:ext cx="7924680" cy="52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E 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toccaggio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ovimentazione 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tto fisso interrato: solo movi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fi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h, D, T, rad, P, PM, altri parametri…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T, Q, 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v, D, PM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Q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v, access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n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nn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886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4038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18749" b="17517"/>
          <a:stretch/>
        </p:blipFill>
        <p:spPr>
          <a:xfrm>
            <a:off x="380880" y="171360"/>
            <a:ext cx="85345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838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Tasto “speciaz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10155" b="15795"/>
          <a:stretch/>
        </p:blipFill>
        <p:spPr>
          <a:xfrm>
            <a:off x="533520" y="1415880"/>
            <a:ext cx="82296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3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24220" b="42708"/>
          <a:stretch/>
        </p:blipFill>
        <p:spPr>
          <a:xfrm>
            <a:off x="304920" y="1219320"/>
            <a:ext cx="7391160" cy="41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33597" b="28124"/>
          <a:stretch/>
        </p:blipFill>
        <p:spPr>
          <a:xfrm>
            <a:off x="2438280" y="1371600"/>
            <a:ext cx="6477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3886200"/>
            <a:ext cx="198108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1:28:32Z</dcterms:created>
  <dc:creator>AFRACCAROLI</dc:creator>
  <dc:description/>
  <dc:language>en-US</dc:language>
  <cp:lastModifiedBy>MMORETTI</cp:lastModifiedBy>
  <dcterms:modified xsi:type="dcterms:W3CDTF">2006-05-09T13:11:14Z</dcterms:modified>
  <cp:revision>25</cp:revision>
  <dc:subject/>
  <dc:title>Presentazione di PowerPoint</dc:title>
</cp:coreProperties>
</file>