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07C-C63C-44FF-BC23-490F2BE1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FD1-522A-419E-B931-7B1C5832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807-E6B5-45CD-91DC-AE218B7C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053-FF39-4CFE-89E6-7F354969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722-432C-402C-8DBB-B767A0A1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940-E427-434C-B6BE-6C33F0F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528-C4B3-4073-8CA9-2640E92A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072-93E5-49C0-BD41-AB9A1241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A4F-FD3B-4B15-8A55-BEF3E4B5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F40-0939-4389-B2E7-B1E60BE1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4A0-DC53-4B46-8CF8-5FB6F6FB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F44-0721-4F93-84C0-56A8029B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6D0C-3352-47EB-A5CC-CFEE1292B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7920" y="2174760"/>
            <a:ext cx="6095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TTORI DI EMISSIONE MEDI DA TRAF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341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9400" y="152280"/>
            <a:ext cx="87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automobili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legger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1760" y="1074600"/>
            <a:ext cx="88599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891540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286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pesanti in Lombardia nel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009800"/>
            <a:ext cx="876312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ciclomotori e motocicl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4160" y="136440"/>
            <a:ext cx="8661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parazione tabel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E auto tipo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legis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f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isultati traffico_intermedi_2005_LOM - fattori emissione - PR.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xl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Inemar - traf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ccodare i dati della tabella collegata da server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_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nella tabella loca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ramite l’apposit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ccoda TRAFFICO_INTERMEDI_REG_C a 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opo aver svuotato la tabella loca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l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base traffico intermedi copert tipo legisl periodo_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piare i dati in un foglio exc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are che il totale delle emissioni complessive regionali da traffico sia corr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dei fogli excel nuovi in cui impostare le formule per i calcoli dei FE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6120" y="152280"/>
            <a:ext cx="86392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ottenere il FE medio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de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iv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missione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a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la percorrenza relativa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e moltiplicare per 10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unità di misura è mg/km, eccetto che per la C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n cui è g/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l’emissione è di polvere da usura (senza combustibile), è in diversi ca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cessario in ogni caso attribuirla a ogni combustibile: ad esempio si suppone 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emissioni di PM10 da automobili da processi di usura siano attribuibili a ve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benzina, diesel, metano e GPL in funzione delle rispettive percorren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ti i combustibi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la formula per ottenere il FE medi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M10 da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arà allora la segu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(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/(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+ 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+ …))/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420120"/>
            <a:ext cx="8510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fattori di emissione medi possono derivar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 stime dei FE basate sulle curva copert e su velocità medi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è arbitraria la scelta di velocità medie; a volte si usano una velocità media per ciclo di guida urbano,  extraurbano e autostradale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da stime basate dal rapporto fra le emissioni e le percorrenz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possibile facilmente in Inemar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73960" y="4724280"/>
            <a:ext cx="681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I fattori di emissione medi possono essere espressi 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(auto, moto, leggeri, pesanti, e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carburante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(euro 0, I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e cilindrata (tipo cop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1680" y="3754440"/>
            <a:ext cx="6330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zione alle emissioni da usura ed evapo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5717" r="0" b="0"/>
          <a:stretch/>
        </p:blipFill>
        <p:spPr>
          <a:xfrm>
            <a:off x="1406520" y="838080"/>
            <a:ext cx="6681960" cy="579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2440" y="0"/>
            <a:ext cx="851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Esempio di tabella di fattori di emissione medi di  PM10 (mg/km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840" y="1725480"/>
            <a:ext cx="8945640" cy="459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87280" y="4046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0360" y="3716280"/>
            <a:ext cx="9901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7427" r="0" b="0"/>
          <a:stretch/>
        </p:blipFill>
        <p:spPr>
          <a:xfrm>
            <a:off x="179280" y="2060640"/>
            <a:ext cx="8713800" cy="444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271440"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da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2935" r="0" b="85416"/>
          <a:stretch/>
        </p:blipFill>
        <p:spPr>
          <a:xfrm>
            <a:off x="179280" y="1125360"/>
            <a:ext cx="87138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3920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73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2181240"/>
            <a:ext cx="914400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6720" y="115920"/>
            <a:ext cx="725472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con dettaglio carb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0880" y="1557360"/>
            <a:ext cx="821700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35280" y="392040"/>
            <a:ext cx="73436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dettaglio tipo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" y="1687680"/>
            <a:ext cx="8891640" cy="41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-1584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traffico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87320"/>
            <a:ext cx="77724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31:36Z</dcterms:created>
  <dc:creator>scaserini</dc:creator>
  <dc:description/>
  <dc:language>en-US</dc:language>
  <cp:lastModifiedBy>scaserini</cp:lastModifiedBy>
  <dcterms:modified xsi:type="dcterms:W3CDTF">2008-10-13T10:06:32Z</dcterms:modified>
  <cp:revision>41</cp:revision>
  <dc:subject/>
  <dc:title>Diapositiva 1</dc:title>
</cp:coreProperties>
</file>