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A34-47FD-48BC-8960-60D99976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1708-9EFB-452D-80DC-65127DB4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1A8-4F41-4E88-83A7-E510C3AD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D1E-0B32-4D21-AAE5-DEC3C711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EDA-038A-4856-A656-6D6A22A3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6C1-7EA7-4C32-B877-0B7BADB4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4DA-83CE-415F-8B4E-0097D2CF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F27-46E5-463A-9A62-A510CCA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701-0B6D-4DC5-95C4-E8B402F9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6BA1-33F7-4EDE-8B72-9956A22B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965-FA88-4EC6-A30D-8E6AFFF9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3E0-2530-4F45-B8F6-EF624714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0E65-1195-4A09-AB76-A87C045FD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7920" y="2174760"/>
            <a:ext cx="6095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TTORI DI EMISSIONE MEDI DA TRAFF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341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9400" y="152280"/>
            <a:ext cx="87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automobili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2286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legger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1760" y="1074600"/>
            <a:ext cx="88599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8915400" cy="1447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2286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veicoli pesanti in Lombardia nel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009800"/>
            <a:ext cx="8763120" cy="1581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ciclomotori e motocicli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4160" y="136440"/>
            <a:ext cx="8661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parazione tabell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FE auto tipo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legis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f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risultati traffico_intermedi_2005_LOM - fattori emissione - PR.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xl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Inemar - traf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ccodare i dati della tabella collegata da server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_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nella tabella loca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NEMAR5_07_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tramite l’apposit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ccoda TRAFFICO_INTERMEDI_REG_C a TRAFFICO_INTERMEDI_RE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opo aver svuotato la tabella loca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 girare la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query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base traffico intermedi copert tipo legisl periodo_in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piare i dati in un foglio exc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are che il totale delle emissioni complessive regionali da traffico sia corre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dei fogli excel nuovi in cui impostare le formule per i calcoli dei FE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76120" y="152280"/>
            <a:ext cx="8639280" cy="60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empio di produzione di una tabella di fattori di emissione medi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ottenere il FE medio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e de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divid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missione dell’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al 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per la percorrenza relativa 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bustibile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e moltiplicare per 10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unità di misura è mg/km, eccetto che per la C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in cui è g/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l’emissione è di polvere da usura (senza combustibile), è in diversi ca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cessario in ogni caso attribuirla a ogni combustibile: ad esempio si suppone 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emissioni di PM10 da automobili da processi di usura siano attribuibili a vei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 benzina, diesel, metano e GPL in funzione delle rispettive percorrenz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ti i combustibili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…, la formula per ottenere il FE medio 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M10 da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arà allora la segu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FEmedio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sz="20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i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(Km</a:t>
            </a:r>
            <a:r>
              <a:rPr b="0" i="1" sz="20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/(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+ 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2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+ …))/Km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</a:rPr>
              <a:t>comb1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*1000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420120"/>
            <a:ext cx="8510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 fattori di emissione medi possono derivar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a stime dei FE basate sulle curva copert e su velocità medie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è arbitraria la scelta di velocità medie; a volte si usano una velocità media per ciclo di guida urbano,  extraurbano e autostradale)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da stime basate dal rapporto fra le emissioni e le percorrenz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(possibile facilmente in Inemar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73960" y="4724280"/>
            <a:ext cx="681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I fattori di emissione medi possono essere espressi 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(auto, moto, leggeri, pesanti, ec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carburante </a:t>
            </a:r>
            <a:br>
              <a:rPr sz="2400"/>
            </a:b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(euro 0, I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imes New Roman"/>
              </a:rPr>
              <a:t>- Per settore e tipo legislativo e cilindrata (tipo cop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1680" y="3754440"/>
            <a:ext cx="633024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zione alle emissioni da usura ed evapor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5717" r="0" b="0"/>
          <a:stretch/>
        </p:blipFill>
        <p:spPr>
          <a:xfrm>
            <a:off x="1406520" y="838080"/>
            <a:ext cx="6681960" cy="579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2440" y="0"/>
            <a:ext cx="8510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Arial"/>
              </a:rPr>
              <a:t>Esempio di tabella di fattori di emissione medi di  PM10 (mg/km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840" y="1725480"/>
            <a:ext cx="8945640" cy="4599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87280" y="4046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360360" y="3716280"/>
            <a:ext cx="990108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47427" r="0" b="0"/>
          <a:stretch/>
        </p:blipFill>
        <p:spPr>
          <a:xfrm>
            <a:off x="179280" y="2060640"/>
            <a:ext cx="8713800" cy="444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271440"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da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2935" r="0" b="85416"/>
          <a:stretch/>
        </p:blipFill>
        <p:spPr>
          <a:xfrm>
            <a:off x="179280" y="1125360"/>
            <a:ext cx="871380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0920" y="392040"/>
            <a:ext cx="69850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5640" cy="1730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2181240"/>
            <a:ext cx="914400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36720" y="115920"/>
            <a:ext cx="725472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con dettaglio carbur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0880" y="1557360"/>
            <a:ext cx="821700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35280" y="392040"/>
            <a:ext cx="73436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di emissione medi di PM, NOx e COV dai veicoli a motore (in mg/km) dettaglio tipo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14480" cy="1508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3200" y="1687680"/>
            <a:ext cx="8891640" cy="41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-1584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Fattori di emissione medi da traffico per settore, combustibile, tipo legislativo e periodo in Lombardia ne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787320"/>
            <a:ext cx="777240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31:36Z</dcterms:created>
  <dc:creator>scaserini</dc:creator>
  <dc:description/>
  <dc:language>en-US</dc:language>
  <cp:lastModifiedBy>scaserini</cp:lastModifiedBy>
  <dcterms:modified xsi:type="dcterms:W3CDTF">2008-10-13T10:06:32Z</dcterms:modified>
  <cp:revision>41</cp:revision>
  <dc:subject/>
  <dc:title>Diapositiva 1</dc:title>
</cp:coreProperties>
</file>