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851-10DA-47BF-B6A4-B91A4943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0CCD-720E-4C22-BD40-776E3B7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B4E-C0B7-4CAC-BD3A-CDC163E9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141-1593-48C4-A8A3-3EE6E41E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E44-70BC-461D-8E92-4444F70B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F27-4B3A-43A3-8882-91CD004D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8EE-44B0-4394-99FB-1F92E1CB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700-CBBB-450B-8849-AEA66B09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E62-3105-46DE-935F-4A3A85A4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A33-1F5C-496B-B794-7DEEB67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403-BB02-4A21-BD7B-81526F43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317-D42F-43A5-9E07-1DD3A9D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55C1-DCA4-46D9-A7D4-B05BFA7787F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895040"/>
            <a:ext cx="940752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missioni per 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34490" b="46877"/>
          <a:stretch/>
        </p:blipFill>
        <p:spPr>
          <a:xfrm>
            <a:off x="1332000" y="1703520"/>
            <a:ext cx="6389640" cy="3886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SENZA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prov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0" t="0" r="32079" b="38195"/>
          <a:stretch/>
        </p:blipFill>
        <p:spPr>
          <a:xfrm>
            <a:off x="1260360" y="1644480"/>
            <a:ext cx="6624720" cy="4521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115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A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N DETTAGLIO 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comuni e inquina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1840" y="281160"/>
            <a:ext cx="8732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assumendo, per il calcolo delle emissioni da traffico a livello di arco sono disponibili le op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provinci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vello comu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diverso dettaglio per i risultati, che finiscono rispettivamente nelle tabel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PROV_ATT_CO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L_TRAFF_ARCO_COMUNE_COP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temporaneamente vengono calcolati anche i risultati a livello comunale per tutti gli inquin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1840" y="281160"/>
            <a:ext cx="8912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TA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singolo arco vengono attribuite le sole emissioni con codice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(autostra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 (extraur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4 (autostr usura)     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5 (extraurb usura)   per pm10, pts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indi NON le emissioni a freddo di tipo LSF che hanno codice attività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ttenzione: a seconda di come è stato impostato un flag nel codice, nelle tabelle dei risultati per arco potrebbero venire salvati solo i risultati dell’ultimo run cioè una sola provincia o un solo comune per vol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710"/>
          <a:stretch/>
        </p:blipFill>
        <p:spPr>
          <a:xfrm>
            <a:off x="611280" y="938160"/>
            <a:ext cx="826128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4000" y="44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interrogazione i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826920" y="1119240"/>
            <a:ext cx="78282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6684"/>
          <a:stretch/>
        </p:blipFill>
        <p:spPr>
          <a:xfrm>
            <a:off x="684360" y="1052640"/>
            <a:ext cx="8137440" cy="5694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OUTPUT: emissioni di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er arco stradale e settore in provincia di VAR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44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PM10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88040" y="974880"/>
            <a:ext cx="5979600" cy="5838840"/>
            <a:chOff x="1688040" y="974880"/>
            <a:chExt cx="5979600" cy="58388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0560" y="974880"/>
              <a:ext cx="597708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688040" y="980280"/>
              <a:ext cx="1258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PM10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4428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EMPIO DI MAP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per arco di NO</a:t>
            </a:r>
            <a:r>
              <a:rPr b="0" lang="it-IT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in provincia di Vare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692360" y="1010520"/>
            <a:ext cx="5975280" cy="5847480"/>
            <a:chOff x="1692360" y="1010520"/>
            <a:chExt cx="5975280" cy="584748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21942" t="5710" r="14567" b="11611"/>
            <a:stretch/>
          </p:blipFill>
          <p:spPr>
            <a:xfrm>
              <a:off x="1692360" y="1025640"/>
              <a:ext cx="5975280" cy="58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92360" y="1010520"/>
              <a:ext cx="1152360" cy="30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it-IT" sz="12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it-IT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(t/anno/km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RETE STRADALE DELLA LOMBARDI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942" t="8658" r="15301" b="14564"/>
          <a:stretch/>
        </p:blipFill>
        <p:spPr>
          <a:xfrm>
            <a:off x="1546200" y="692280"/>
            <a:ext cx="612144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970920"/>
            <a:ext cx="77770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usate dal modulo emissioni per ar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cedure di calco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elle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goritmo utilizzato per la stima delle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io procedure da masch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estione locale dei risult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map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EM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833400"/>
            <a:ext cx="7777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tile poter conoscere non soltanto le emissioni da traffico lineare, ma essere in grado di attribuirle a ciascun arco strad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è decisa l’implementazione di un nuovo modulo, che scrive in apposite tabelle di output in forma disaggregata per arco i dati che sono in ogni caso già prodotti dal modulo traffico lineare in tabelle intermedie, ma che  in seguito vengono da esso aggreg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181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5445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il seguente algoritmo a partire dai valori di emi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o scarico ed evaporative, a freddo e a cal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6344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E ALGORIT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10508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emissioni per arco utilizza le tabelle del mod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 lineare. Le nuove tabelle introdotte per questo modulo sono solo tabelle di outp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256536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totali per un singolo arco stradale si calcolano tramite gli algoritmi COPERT già previsti nel modulo traffico lineare. Sono quindi la somma delle emissioni allo scarico a caldo, a freddo, evaporative, da usura, ec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i sono nuovi algoritmi ma è solo un utilizzo di quelli previsti nel modulo lineare per singolo ar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115920"/>
            <a:ext cx="56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DI CAL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6560" y="978480"/>
            <a:ext cx="842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to il numero molto grande di dati e le difficoltà di gesti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per arco non possono essere generati direttament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FFICO_INTERMEDI in modo compl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questo motivo si rende necessario creare le tabelle con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ultati disaggregati per arco come risultato di specifiche richies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456360"/>
            <a:ext cx="805068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istono due tipi di run per questo modu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’intera regione o per una singola provincia con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arco stradale ma senza dettaglio di codice Cope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permette di calcolare le emissioni da traffico line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 singolo comune con dettaglio di arco stradale e di cod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p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41440" y="1015920"/>
            <a:ext cx="798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senza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PROV_ATT_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ha la seguente strut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3752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280" y="2332080"/>
            <a:ext cx="375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5492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3240" y="97884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risultati con dettaglio di codice Copert sono scri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tabella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L_TRAFFICO_ARCO_COMUNE_COPER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ui campi sono gli stessi della tabella provincia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a con in aggiunta il campo relativo al codice Copert dei veico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3960" y="26028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TABELLE DI OUTPUT 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5280" y="2684160"/>
            <a:ext cx="3759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R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STAT_COMU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INQU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COMBUSTIB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ID_ATTIV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DICE_COP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I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COEFF_INCERTEZZA_F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VALORE_EMISS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61405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campo VALORE_EMISSIONE è l’output della proced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7317" b="23419"/>
          <a:stretch/>
        </p:blipFill>
        <p:spPr>
          <a:xfrm>
            <a:off x="539640" y="851040"/>
            <a:ext cx="8064720" cy="5602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4360" y="5661000"/>
            <a:ext cx="1584000" cy="287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15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LANCIO PROCEDURE DA MASCH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8721" b="55712"/>
          <a:stretch/>
        </p:blipFill>
        <p:spPr>
          <a:xfrm>
            <a:off x="1474920" y="1628640"/>
            <a:ext cx="597672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547640" y="2709720"/>
            <a:ext cx="3816360" cy="7192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59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PROCEDURE EMISSIONI PER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maschera di selezione dettag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aserini</cp:lastModifiedBy>
  <dcterms:modified xsi:type="dcterms:W3CDTF">2008-10-13T10:17:48Z</dcterms:modified>
  <cp:revision>174</cp:revision>
  <dc:subject/>
  <dc:title>PowerPoint Presentation</dc:title>
</cp:coreProperties>
</file>